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615-AF46-4E08-A43D-A9182E4A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E7F-C927-45B4-8D24-79A6369A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069C-DDB3-4613-8BFE-F701B53B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586-E33A-4A7A-B420-9CAEA95B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263-0109-4BEB-8C9F-AEE6E987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F57-0DBF-4376-9848-EF0F1C56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B14-3190-4CA2-81A0-560246A2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013-3686-4F8D-8422-E003074C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8B8-D8CC-47C6-976A-4C227817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4FE5-AD9F-4345-9868-EDCE201B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05E-2870-4686-9AD5-9806456A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1AF-46BC-4C60-8400-3B05D9D1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3995-ECAB-4643-92D1-4037CD5A7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Making the XML Stack</a:t>
            </a:r>
            <a:br>
              <a:rPr sz="4800"/>
            </a:b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ork with XML 1.1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ah Mendelso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3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066680"/>
            <a:ext cx="655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ML Plenary Lightening 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chema: String Type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4640" y="1600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2040" y="2133720"/>
            <a:ext cx="800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&lt;xsd:attribute name=“a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type=“</a:t>
            </a:r>
            <a:r>
              <a:rPr b="0" lang="en-US" sz="4000" spc="-1" strike="noStrike">
                <a:solidFill>
                  <a:srgbClr val="ff3399"/>
                </a:solidFill>
                <a:latin typeface="Courier New"/>
              </a:rPr>
              <a:t>xsd:string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”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46080" y="3622680"/>
            <a:ext cx="800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at=“Noah Mendelsoh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654360" y="3695760"/>
            <a:ext cx="436680" cy="438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0600" y="461484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Valid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chema: String Type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4640" y="1600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32040" y="2133720"/>
            <a:ext cx="800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&lt;xsd:attribute name=“a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type=“</a:t>
            </a:r>
            <a:r>
              <a:rPr b="0" lang="en-US" sz="4000" spc="-1" strike="noStrike">
                <a:solidFill>
                  <a:srgbClr val="ff3399"/>
                </a:solidFill>
                <a:latin typeface="Courier New"/>
              </a:rPr>
              <a:t>xsd:string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”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0600" y="4614840"/>
            <a:ext cx="82818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oesn’t validate with xsd:string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The ·value space· of string is the set of finite-length sequences of characters (</a:t>
            </a: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as defined in [XML 1.0 (Second Edition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)]) that ·match· the Char production from [XML 1.0 (Second Edition)].”  (XML Schema Part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46080" y="3622680"/>
            <a:ext cx="800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at=“&amp;#x1f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266840" y="3576600"/>
            <a:ext cx="5556240" cy="814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9160" y="3578400"/>
            <a:ext cx="5556240" cy="814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chema: Name Type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4640" y="1600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2040" y="2133720"/>
            <a:ext cx="800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&lt;xsd:attribute name=“a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type=“</a:t>
            </a:r>
            <a:r>
              <a:rPr b="0" lang="en-US" sz="4000" spc="-1" strike="noStrike">
                <a:solidFill>
                  <a:srgbClr val="ff3399"/>
                </a:solidFill>
                <a:latin typeface="Courier New"/>
              </a:rPr>
              <a:t>xsd:name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”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46080" y="3622680"/>
            <a:ext cx="800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at=“Noah Mendelsoh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4360" y="3695760"/>
            <a:ext cx="436680" cy="4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chema: Name Type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4640" y="1600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32040" y="2133720"/>
            <a:ext cx="800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&lt;xsd:attribute name=“a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type=“</a:t>
            </a:r>
            <a:r>
              <a:rPr b="0" lang="en-US" sz="4000" spc="-1" strike="noStrike">
                <a:solidFill>
                  <a:srgbClr val="ff3399"/>
                </a:solidFill>
                <a:latin typeface="Courier New"/>
              </a:rPr>
              <a:t>xsd:name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”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0600" y="4614840"/>
            <a:ext cx="8281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oesn’t validate unless we change the Schema Re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The ·lexical space· of Name is the set of all strings which </a:t>
            </a: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·match· the Name production of [XML 1.0 (Second Edition)].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”  (XML Schema Part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46080" y="3622680"/>
            <a:ext cx="800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at=“Noah Mendelsoh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654360" y="3695760"/>
            <a:ext cx="436680" cy="438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1266840" y="3576600"/>
            <a:ext cx="5556240" cy="814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89160" y="3578400"/>
            <a:ext cx="5556240" cy="814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ry: Functions &amp; Operators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0800" y="1600200"/>
            <a:ext cx="800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urier New"/>
              </a:rPr>
              <a:t>fn:node-name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(&lt;abc&gt;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2600" y="2536920"/>
            <a:ext cx="800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urier New"/>
              </a:rPr>
              <a:t>fn:node-name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(&lt;XML&gt;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00560" y="2719440"/>
            <a:ext cx="32724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ry: Functions &amp; Operators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0800" y="1600200"/>
            <a:ext cx="800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urier New"/>
              </a:rPr>
              <a:t>fn:node-name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(&lt;abc&gt;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9720" y="4113360"/>
            <a:ext cx="828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oesn’t work…the return type of fn:node-name is an xsd:QName which is defined as (you guessed it)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The ·value space· of QName is the set of tuples {namespace name, local part}, where namespace name is an anyURI and </a:t>
            </a:r>
            <a:r>
              <a:rPr b="1" i="1" lang="en-US" sz="1800" spc="-1" strike="noStrike">
                <a:solidFill>
                  <a:srgbClr val="ff3399"/>
                </a:solidFill>
                <a:latin typeface="Arial"/>
              </a:rPr>
              <a:t>local part is an NCName [I.e. per 1999 version of Namespaces in XML…NRM]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” (XML Schema Part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2600" y="2536920"/>
            <a:ext cx="800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urier New"/>
              </a:rPr>
              <a:t>fn:node-name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(&lt;XML&gt;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00560" y="2719440"/>
            <a:ext cx="327240" cy="328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34160" y="1749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3800" y="263376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oes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23960" y="2532240"/>
            <a:ext cx="5556240" cy="814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6280" y="2533680"/>
            <a:ext cx="5556240" cy="814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ut there’s more…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you know which Infosets allow new names/cha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/xml (RFC 3203) needs clarific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formal discussions star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AP is based on RFC 3203…did not explicitly anticipate new content…affects inter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 old-style content may be labeled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?xml version=“1.1”?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ing large documents complicates early generation of &lt;?xml version=“1.x”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clear whether query can easily check for new content when serial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interop story compromised:  already deployed software can’t read even old-styl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SDL?, RDF? Probably 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may not have the list right, but there clearly are a lot of interrelated issues to consi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nclusion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1.1 seems to affect many Recommendations, RFC’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t busy figuring out the i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opinion: we need a stack that is consistent and that preserves the nearly universal interoperability that has made XML compelling for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al of this talk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of this talk:  alert non XML-core WGs to need to start building an interoperable stack in an XML 1.1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or deprecate use of XML 1.1 in particular situations or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ate W3C process:  did right reviews happen prior to 1.1 re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80000" y="3025800"/>
            <a:ext cx="51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New in XML 1.1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ah Buys an Island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371600"/>
            <a:ext cx="7315200" cy="1191240"/>
          </a:xfrm>
          <a:prstGeom prst="rect">
            <a:avLst/>
          </a:prstGeom>
          <a:noFill/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and designs his own letter used in place of “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65720" y="2895480"/>
            <a:ext cx="6985440" cy="1632960"/>
            <a:chOff x="765720" y="2895480"/>
            <a:chExt cx="6985440" cy="1632960"/>
          </a:xfrm>
        </p:grpSpPr>
        <p:sp>
          <p:nvSpPr>
            <p:cNvPr id="50" name=""/>
            <p:cNvSpPr/>
            <p:nvPr/>
          </p:nvSpPr>
          <p:spPr>
            <a:xfrm>
              <a:off x="765720" y="3429000"/>
              <a:ext cx="6985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Noah Mendelsohn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9880" y="2895480"/>
              <a:ext cx="162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nglish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766080" y="4724280"/>
            <a:ext cx="7453080" cy="1632960"/>
            <a:chOff x="766080" y="4724280"/>
            <a:chExt cx="7453080" cy="1632960"/>
          </a:xfrm>
        </p:grpSpPr>
        <p:grpSp>
          <p:nvGrpSpPr>
            <p:cNvPr id="53" name=""/>
            <p:cNvGrpSpPr/>
            <p:nvPr/>
          </p:nvGrpSpPr>
          <p:grpSpPr>
            <a:xfrm>
              <a:off x="766080" y="5105520"/>
              <a:ext cx="7453080" cy="1251720"/>
              <a:chOff x="766080" y="5105520"/>
              <a:chExt cx="7453080" cy="1251720"/>
            </a:xfrm>
          </p:grpSpPr>
          <p:sp>
            <p:nvSpPr>
              <p:cNvPr id="54" name=""/>
              <p:cNvSpPr/>
              <p:nvPr/>
            </p:nvSpPr>
            <p:spPr>
              <a:xfrm>
                <a:off x="766080" y="5257800"/>
                <a:ext cx="74530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000000"/>
                    </a:solidFill>
                    <a:latin typeface="Arial"/>
                  </a:rPr>
                  <a:t>Noah      endelsohn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5105520"/>
                <a:ext cx="98280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838440" y="472428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slandese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Changes?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4080" y="2133720"/>
            <a:ext cx="263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XML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4080" y="3325680"/>
            <a:ext cx="239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χμλ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4080" y="4518000"/>
            <a:ext cx="263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XML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NoahChar" descr=""/>
          <p:cNvPicPr/>
          <p:nvPr/>
        </p:nvPicPr>
        <p:blipFill>
          <a:blip r:embed="rId1"/>
          <a:stretch/>
        </p:blipFill>
        <p:spPr>
          <a:xfrm>
            <a:off x="2209680" y="4716360"/>
            <a:ext cx="604800" cy="609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27560" y="1371600"/>
            <a:ext cx="16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ed in XML 1.0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1371600"/>
            <a:ext cx="16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ed in XML 1.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32767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44197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8288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96080" y="18288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18288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3080" y="228600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3080" y="35812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3440" y="48006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1880" y="236232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1880" y="365760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11520" y="487692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Changes?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200" y="2362320"/>
            <a:ext cx="31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&lt;attr=“XML”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27560" y="1371600"/>
            <a:ext cx="16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ed in XML 1.0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1371600"/>
            <a:ext cx="16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ed in XML 1.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3048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40384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18288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18288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18288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3080" y="228600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3080" y="327672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28880" y="501804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1880" y="236232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01880" y="327672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22680" y="501804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760" y="3251160"/>
            <a:ext cx="29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&lt;attr=“χμλ”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1200" y="4140360"/>
            <a:ext cx="31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&lt;attr=“XML”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9200" y="4896000"/>
            <a:ext cx="34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&lt;attr=“&amp;#x1f”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39880" y="4303800"/>
            <a:ext cx="37944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19320" y="48769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7600" y="419112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32120" y="419112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27440" y="3025800"/>
            <a:ext cx="528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Issues to Cons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chema: Declaring Elements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4640" y="1600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133720"/>
            <a:ext cx="800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&lt;xsd:element name=“XML”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950160" y="2306520"/>
            <a:ext cx="326880" cy="328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120" y="34290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Is this 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an you declare elements with the new na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34290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Is this 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an you declare elements with the new na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chema: Declaring Elements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4640" y="1600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133720"/>
            <a:ext cx="800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&lt;xsd:element </a:t>
            </a:r>
            <a:r>
              <a:rPr b="0" lang="en-US" sz="4000" spc="-1" strike="noStrike">
                <a:solidFill>
                  <a:srgbClr val="ff3399"/>
                </a:solidFill>
                <a:latin typeface="Courier New"/>
              </a:rPr>
              <a:t>name=“XML”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950160" y="2306520"/>
            <a:ext cx="326880" cy="328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1266840" y="1947960"/>
            <a:ext cx="6521400" cy="244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8480" y="2201760"/>
            <a:ext cx="5776920" cy="2190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3000" y="4514760"/>
            <a:ext cx="72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No.  In an element declaration, the {name} component is specified as “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an NCName as defined by [ref to 1999 version of Namespaces in XML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]” (from XML Schema Part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10:31:52Z</dcterms:created>
  <dc:creator>Noah Mendelsohn</dc:creator>
  <dc:description/>
  <dc:language>en-US</dc:language>
  <cp:lastModifiedBy>Noah Mendelsohn</cp:lastModifiedBy>
  <dcterms:modified xsi:type="dcterms:W3CDTF">2004-03-03T08:13:10Z</dcterms:modified>
  <cp:revision>36</cp:revision>
  <dc:subject/>
  <dc:title>XML Plenary Lightening Talk Making the XML Stack Work with XML 1.1</dc:title>
</cp:coreProperties>
</file>