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7EBA-45A4-4F0B-A221-B8C11BCB8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4680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7A9B-8E72-494D-B9B1-7696EFA30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00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880B-E442-44CF-82D9-975607B3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925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925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6476-B2E3-4EA4-8890-61F4EEB31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9320" y="4568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6309-958A-4FD6-AAD9-96403516B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6800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4680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6800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25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65720" y="121896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925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65720" y="3646800"/>
            <a:ext cx="2355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2BFE-1F87-46BD-B700-0FD2856D75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CFC0-E910-4F95-A03D-5042A7AA7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C984-17C5-4EEC-A994-F2A059D2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4568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1A33-2693-4389-AD6E-A2CC2745D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0F15-2B39-4631-BEF4-F038DDCC9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000" y="364680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4404-A2E6-4F74-BD77-E6FC5258D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000" y="1218960"/>
            <a:ext cx="3569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46800"/>
            <a:ext cx="7315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E37C-9AB2-4BD0-A47D-BEBE0770C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733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18B1-0AE1-4115-A966-12EA73F0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819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v.w3.org/cvsweb/~checkout~/2002/ws/desc/requirements/ws-desc-reqs.html#semanweb" TargetMode="External"/><Relationship Id="rId3" Type="http://schemas.openxmlformats.org/officeDocument/2006/relationships/hyperlink" Target="http://www.ietf.org/rfc/rfc2396.txt" TargetMode="External"/><Relationship Id="rId4" Type="http://schemas.openxmlformats.org/officeDocument/2006/relationships/hyperlink" Target="http://www.ietf.org/rfc/rfc3023.txt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etf.org/rfc/rfc2046.tx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2001/tag/2002/0129-mime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1828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120: URI Referen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WS Description WG F2F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ton, 2002-11-11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3803760" y="6097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18960" y="403848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thur Ryma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yman@ca.ibm.co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QNam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ake QNames unique and construct fragments from them, e.g. #extended-name(http://airline.wsdl/ticketagent/, listFlightsReques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SDL already uses QNam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ype of the conceptual element is not appar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ating unique QNames makes authoring more difficul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bout multiple documents within a namespace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EB32-4AA4-4AA9-ACC4-C72CBA648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XPointer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full XPointer to identify eleme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ointer is an existing stand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ual element type is appar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ointer syntax is very verbose, e.g. #xmlns(w=http://schemas.xmlsoap.org/wsdl/) xpointer(//w:portType[@name="TicketAgent"]/w:operation[@name="listFlights"]/w:input[@name="listFlightsRequest"]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ointer processor requir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ointer expressions are not uniq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5BC2-1575-4491-830E-D0D2264949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XML Schema: NU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lone XML Schema: Normalized Universal Names, e.g. #xmlns(ta=http://www.airline.wsdl/ticketagent/) ws-nun(/portType(ta:TicketAgent)/operation(ta:listFlights)/input(ta:listFlightsRequest))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ML Schema: NUN is a proposed stand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istent with XML Sche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ceptual element type is appar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bose and complex due to greater XML Schema complex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SDL NUN processor requir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1CDB-CFAC-4206-AAEA-E0AD31376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XPointer Framework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se XPointer Framework to define WSDL fragments as proposed in R120: WSDL URI Referenc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ragment syntax is </a:t>
            </a:r>
            <a:r>
              <a:rPr b="0" i="1" lang="en-US" sz="2200" spc="-1" strike="noStrike">
                <a:solidFill>
                  <a:srgbClr val="000000"/>
                </a:solidFill>
                <a:latin typeface="Arial Narrow"/>
              </a:rPr>
              <a:t>element-name(localname-path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.g. #input(TicketAgent/listFlights/listFlightsRequest)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ointer Framework is a standar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ragments are highly readable and concis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consistent with XML Schem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oesn’t handle WSDL Extension elements (ye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8E44-C403-466C-A715-303EDE1618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e should define application/wsdl+xml and text/wsdl+xm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 we need to be able to identify elements of a namespace as opposed to elements of a document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o extension elements define conceptual elements? If so, we need to have URI references for them too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et’s pick a fragment syntax (I recommend simple XPointer Framework approach)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A39C-6D73-437C-AB70-0B9010C4DB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quiremen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2"/>
              </a:rPr>
              <a:t>R120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: The description language MUST ensure that all conceptual elements in the description of Messages are addressable by a URI reference [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3"/>
              </a:rPr>
              <a:t>IETF RFC 2396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]. (From the Semantic Web. Last discussed 11 June 2002.)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RI reference = URI + fragment identifi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mantics of fragment identifier depends on data retrieved via the URI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rmat and interpretation of the fragment identifier depends on the media typ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AG finding states that a media type should be defined for WSD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pplication/wsdl+xml, text/wsdl+xml [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4"/>
              </a:rPr>
              <a:t>IEFT RFC 3023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3565-482B-4288-AF1F-0DED5DC90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FC 2392:URI Referenc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URI reference may be absolute or relative, and may have additional information attached in the form of a fragment identifier.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RI-reference = [ absoluteURI | relativeURI ] [ "#" fragment ]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hen a URI reference is used to perform a retrieval action on the identified resource, the optional fragment identifier, separated from the URI by a crosshatch ("#") character, consists of additional reference information to be interpreted by the user agent after the retrieval action has been successfully completed.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semantics of a fragment identifier is a property of the data resulting from a retrieval action, regardless of the type of URI used in the reference. Therefore, the format and interpretation of fragment identifiers is dependent on the media type [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2"/>
              </a:rPr>
              <a:t>RFC2046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] of the retrieval result.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9CA9-201F-454D-95CD-CB6EE3CFD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AG Finding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2"/>
              </a:rPr>
              <a:t>TAG Finding: Internet Media Type registration, consistency of us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W3C Working Groups engaged in defining a language SHOULD arrange for the registration of an Internet Media Type (defined in RFC 2046 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3" action="ppaction://hlinksldjump"/>
              </a:rPr>
              <a:t>[RFC2046]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) for that language; see [</a:t>
            </a:r>
            <a:r>
              <a:rPr b="0" lang="en-US" sz="2200" spc="-1" strike="noStrike" u="sng">
                <a:solidFill>
                  <a:srgbClr val="9900ff"/>
                </a:solidFill>
                <a:uFillTx/>
                <a:latin typeface="Arial Narrow"/>
                <a:hlinkClick r:id="rId4" action="ppaction://hlinksldjump"/>
              </a:rPr>
              <a:t>IANAREG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Narrow"/>
              </a:rPr>
              <a:t>] for registration instructions.”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69D6-723D-4258-9133-B80A071261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FC 3023: XML Media Typ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 enable the exchange of XML network entities, this document standardizes five new media types -- text/xml, application/xml, text/xml-external-parsed-entity, application/xml-external-parsed-entity, and application/xml-dtd -- as well as a naming convention for identifying XML-based MIME media types.”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o facilitate the processing of such types, media types based on XML, but that are not identified using text/xml or application/xml, SHOULD be named using a suffix of '+xml' as described in Section 7.”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SDL is no more or less humanly readable than XML Schema and has similar usag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fine both application/wsdl+xml and text/wsdl+xml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F210-B476-403B-BEBF-1F9C3132D2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RI Alternativ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What URI can be used with a URI reference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URI of a WSDL documen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istent with the normal use of fragment identifiers in HTML and XML (XPointer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 a good choice as an identifier of a concept that is independent of any particular document that contains its definit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 should be easy to compare identifiers (e.g. without retrieving document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URI of a WSDL namespac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s a suitable abstraction for concepts that exist outside of particular instance documen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y not be retrievable, or if retrieval may point to a document that describes the namespace instead of WSD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refore can’t use fragment identifiers with thi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.f. XS-NUN has yet to define a URI for the schema-as-a-who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6CC7-7B50-4FCD-8FB6-02000140A2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rn:wsdl: Scheme for Description-as-a-Whole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roduce a new urn scheme to describe the set of all conceptual elements in a WSDL namespace, c.f. XS-NUN schema-as-a-whol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 resource described by a urn:wsdl:namespace URI in a given context is the set of all conceptual elements defined by the WSDL documents associated with the namespace URI, e.g. via &lt;import&gt; elements.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.g.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urn:wsdl:http://airline.wsdl/ticketagent/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is the description-as-a-whole for the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ttp://airline.wsdl/ticketagent/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 namespac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s was dropped from the initial proposa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erefore only the use of URIs of WSDL documents makes sense with fragment identifier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1F28-9593-495D-8467-D168D4855D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ragment Alternatives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QNam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XPointer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XML Schema: Normalized Universal Nam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XPointer Framework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4035-A718-46F1-B16F-DF544DAD4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ID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dd a required ID attribute to each conceptual element, e.g. &lt;portType id=“TravelAgentPortType” name=…&gt;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ts with bare XPointer syntax, e.g. #TravelAgentPortTyp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type of conceptual element is not appar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kes authoring more difficul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about multiple documents within a namespace?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C1A9-33CB-49E7-B52C-EBFDAB68A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04:28:54Z</dcterms:created>
  <dc:creator>Arthur Ryman</dc:creator>
  <dc:description/>
  <dc:language>en-US</dc:language>
  <cp:lastModifiedBy>Arthur Ryman</cp:lastModifiedBy>
  <dcterms:modified xsi:type="dcterms:W3CDTF">2002-11-11T14:12:29Z</dcterms:modified>
  <cp:revision>36</cp:revision>
  <dc:subject>WSDL</dc:subject>
  <dc:title>R120: URI References</dc:title>
</cp:coreProperties>
</file>