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821700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280" y="3840840"/>
            <a:ext cx="821700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840" y="148392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8280" y="384084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840" y="384084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264564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6760" y="1483920"/>
            <a:ext cx="264564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4880" y="1483920"/>
            <a:ext cx="264564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8280" y="3840840"/>
            <a:ext cx="264564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6760" y="3840840"/>
            <a:ext cx="264564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4880" y="3840840"/>
            <a:ext cx="264564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8280" y="1483920"/>
            <a:ext cx="82170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82170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400968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840" y="1483920"/>
            <a:ext cx="400968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3680" y="692280"/>
            <a:ext cx="8216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840" y="1483920"/>
            <a:ext cx="400968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8280" y="384084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8280" y="1483920"/>
            <a:ext cx="82170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400968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840" y="148392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840" y="384084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840" y="148392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8280" y="3840840"/>
            <a:ext cx="821700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821700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8280" y="3840840"/>
            <a:ext cx="821700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840" y="148392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8280" y="384084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840" y="384084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264564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6760" y="1483920"/>
            <a:ext cx="264564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4880" y="1483920"/>
            <a:ext cx="264564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8280" y="3840840"/>
            <a:ext cx="264564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6760" y="3840840"/>
            <a:ext cx="264564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4880" y="3840840"/>
            <a:ext cx="264564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8280" y="1483920"/>
            <a:ext cx="82170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82170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400968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840" y="1483920"/>
            <a:ext cx="400968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82170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3680" y="692280"/>
            <a:ext cx="8216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840" y="1483920"/>
            <a:ext cx="400968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8280" y="384084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400968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840" y="148392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840" y="384084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840" y="148392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8280" y="3840840"/>
            <a:ext cx="821700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821700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8280" y="3840840"/>
            <a:ext cx="821700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840" y="148392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8280" y="384084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840" y="384084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264564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6760" y="1483920"/>
            <a:ext cx="264564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14880" y="1483920"/>
            <a:ext cx="264564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8280" y="3840840"/>
            <a:ext cx="264564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6760" y="3840840"/>
            <a:ext cx="264564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14880" y="3840840"/>
            <a:ext cx="264564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400968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840" y="1483920"/>
            <a:ext cx="400968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3680" y="692280"/>
            <a:ext cx="8216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483920"/>
            <a:ext cx="400968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8280" y="384084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400968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48392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840" y="384084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840" y="1483920"/>
            <a:ext cx="400968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8280" y="3840840"/>
            <a:ext cx="8217000" cy="21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1520"/>
          </a:xfrm>
          <a:prstGeom prst="rect">
            <a:avLst/>
          </a:prstGeom>
          <a:noFill/>
          <a:ln cap="sq"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299440" y="6237360"/>
            <a:ext cx="493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590D-2217-499C-8947-E2917E707FFA}" type="slidenum">
              <a:rPr b="0" lang="it-IT" sz="1200" spc="-1" strike="noStrike">
                <a:solidFill>
                  <a:srgbClr val="969696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8280" y="1746000"/>
            <a:ext cx="82170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812880" indent="-27792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523880" indent="-26640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2157480" indent="-18900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603520" indent="-17784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2603520" indent="-17784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2603520" indent="-17784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8280" y="1171440"/>
            <a:ext cx="821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anklin Gothic Demi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"/>
          <p:cNvSpPr/>
          <p:nvPr/>
        </p:nvSpPr>
        <p:spPr>
          <a:xfrm>
            <a:off x="6804000" y="216000"/>
            <a:ext cx="18050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ranklin Gothic Medium Cond"/>
              </a:rPr>
              <a:t>Laura FERR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203040"/>
            <a:ext cx="2158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Franklin Gothic Medium Cond"/>
              </a:rPr>
              <a:t>GRUPPO TELECOM ITALIA (F.G. Medium Condensed cp1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2304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889440" y="6426360"/>
            <a:ext cx="1363680" cy="28404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274680"/>
            <a:ext cx="2158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Franklin Gothic Medium Cond"/>
              </a:rPr>
              <a:t>GRUPPO TELECOM ITALIA (F.G.Medium Condensed cp1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404640"/>
            <a:ext cx="5888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Franklin Gothic Heavy"/>
              </a:rPr>
              <a:t>Telecomitalia at SAWSDL W3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836640"/>
            <a:ext cx="65228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Franklin Gothic Demi"/>
              </a:rPr>
              <a:t>Galway, 19 Jun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1520"/>
          </a:xfrm>
          <a:prstGeom prst="rect">
            <a:avLst/>
          </a:prstGeom>
          <a:noFill/>
          <a:ln cap="sq"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2920" y="4205160"/>
            <a:ext cx="78166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it-IT" sz="2000" spc="-1" strike="noStrike">
                <a:solidFill>
                  <a:srgbClr val="969696"/>
                </a:solidFill>
                <a:latin typeface="Franklin Gothic Medium Cond"/>
              </a:rPr>
              <a:t>Laura FERR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2304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89440" y="6426360"/>
            <a:ext cx="1363680" cy="28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1520"/>
          </a:xfrm>
          <a:prstGeom prst="rect">
            <a:avLst/>
          </a:prstGeom>
          <a:noFill/>
          <a:ln cap="sq"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299440" y="6237360"/>
            <a:ext cx="493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546F-D26C-4CB7-B1F1-A3642F276E86}" type="slidenum">
              <a:rPr b="0" lang="it-IT" sz="1200" spc="-1" strike="noStrike">
                <a:solidFill>
                  <a:srgbClr val="969696"/>
                </a:solidFill>
                <a:latin typeface="Bell Centennial NameAndNumbe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06840" y="325440"/>
            <a:ext cx="25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ell Centennial NameAndNumber"/>
              </a:rPr>
              <a:t>TITOLO PRESENTAZIONE, ALLINEATO IN BASSO E A DESTRA, MASSIMO 2 RIG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458280" y="1483920"/>
            <a:ext cx="82170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Centennial SubCaptio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lvl="1" marL="812880" indent="-27792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Centennial SubCaptio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lvl="2" marL="1523880" indent="-26640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Centennial SubCaptio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lvl="3" marL="2157480" indent="-18900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Centennial SubCaptio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lvl="4" marL="2603520" indent="-17784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Centennial SubCaptio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lvl="5" marL="2603520" indent="-17784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Centennial SubCaptio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lvl="6" marL="2603520" indent="-17784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Centennial SubCaptio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e1c23"/>
                </a:solidFill>
                <a:latin typeface="Bell Centennial SubCaption"/>
              </a:rPr>
              <a:t>Click to edit the title text format</a:t>
            </a: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93" name=""/>
          <p:cNvSpPr/>
          <p:nvPr/>
        </p:nvSpPr>
        <p:spPr>
          <a:xfrm>
            <a:off x="455760" y="6093000"/>
            <a:ext cx="8207280" cy="0"/>
          </a:xfrm>
          <a:prstGeom prst="line">
            <a:avLst/>
          </a:prstGeom>
          <a:ln w="9360">
            <a:solidFill>
              <a:srgbClr val="ee1c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0" r="0" b="66024"/>
          <a:stretch/>
        </p:blipFill>
        <p:spPr>
          <a:xfrm>
            <a:off x="324000" y="115920"/>
            <a:ext cx="5724360" cy="323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858520" y="44280"/>
            <a:ext cx="334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500" spc="-1" strike="noStrike">
                <a:solidFill>
                  <a:srgbClr val="000000"/>
                </a:solidFill>
                <a:latin typeface="Arial"/>
              </a:rPr>
              <a:t>P</a:t>
            </a:r>
            <a:fld id="{419C658D-EB70-412F-A44E-5A1CCDA3A441}" type="slidenum">
              <a:rPr b="0" lang="it-IT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e1c23"/>
                </a:solidFill>
                <a:latin typeface="Bell Centennial SubCaption"/>
              </a:rPr>
              <a:t>TELECOMITALIA: </a:t>
            </a:r>
            <a:r>
              <a:rPr b="1" lang="it-IT" sz="2200" spc="-1" strike="noStrike">
                <a:solidFill>
                  <a:srgbClr val="ee1c23"/>
                </a:solidFill>
                <a:latin typeface="Bell Centennial SubCaption"/>
              </a:rPr>
              <a:t>What do We need from SAWSDL?</a:t>
            </a:r>
            <a:br>
              <a:rPr sz="2200"/>
            </a:br>
            <a:br>
              <a:rPr sz="2200"/>
            </a:b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6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Centennial SubCaption"/>
              </a:rPr>
              <a:t>Claudio VENEZIA, Laura FERRARI</a:t>
            </a: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  <p:sp>
        <p:nvSpPr>
          <p:cNvPr id="134" name=""/>
          <p:cNvSpPr/>
          <p:nvPr/>
        </p:nvSpPr>
        <p:spPr>
          <a:xfrm>
            <a:off x="2714400" y="1052640"/>
            <a:ext cx="2983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e1c23"/>
                </a:solidFill>
                <a:latin typeface="Bell Centennial SubCaption"/>
              </a:rPr>
              <a:t>Galway F2F mee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79280" y="1341360"/>
            <a:ext cx="849168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wsdl:definitions xmlns:tns3="http://www.csapi.org/schema/parlayx/sms/v2_0" xmlns:impl="http://www.csapi.org/wsdl/parlayx/sms/send/v2_0/service"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……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wsdl:types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schema elementFormDefault="qualified" targetNamespace="http://www.csapi.org/schema/parlayx/sms/send/v2_0/local"  xmlns="http://www.w3.org/2001/XMLSchema"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import namespace="http://www.csapi.org/schema/parlayx/sms/v2_0"/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import namespace="http://www.csapi.org/schema/parlayx/common/v2_0"/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element name="sendSms"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complexTyp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sequenc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element maxOccurs="unbounded" name="addresses" type="xsd:anyURI"/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element name="senderName" type="xsd:string"/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element name="charging" type="tns2:ChargingInformation"/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element name="message" type="xsd:string"/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/sequenc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/complexTyp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/element&gt;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………………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/wsdl:types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wsdl:message name="sendSmsRequest"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wsdl:part name="parameters" element="tns1:sendSms"/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/wsdl:messag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anklin Gothic Medium"/>
              </a:rPr>
              <a:t>…</a:t>
            </a:r>
            <a:r>
              <a:rPr b="1" lang="en-US" sz="900" spc="-1" strike="noStrike">
                <a:solidFill>
                  <a:srgbClr val="000000"/>
                </a:solidFill>
                <a:latin typeface="Franklin Gothic Medium"/>
              </a:rPr>
              <a:t>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wsdl:portType name="SendSms"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wsdl:operation name="sendSms"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wsdl:input name="sendSmsRequest" message="impl:sendSmsRequest"/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wsdl:output name="sendSmsResponse" message="impl:sendSmsResponse"/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/wsdl:operation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…………………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21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1107"/>
                </a:solidFill>
                <a:latin typeface="Bell Centennial SubCaption"/>
              </a:rPr>
              <a:t>Parlay X WS SendSMS (an extract)</a:t>
            </a:r>
            <a:br>
              <a:rPr sz="2000"/>
            </a:br>
            <a:endParaRPr b="1" lang="en-US" sz="2000" spc="-1" strike="noStrike">
              <a:solidFill>
                <a:srgbClr val="ee1c23"/>
              </a:solidFill>
              <a:latin typeface="Bell Centennial SubCapt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79280" y="981000"/>
            <a:ext cx="8452080" cy="58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service:supports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grounding:WsdlGrounding rdf:ID="sendSMS_WsdlGrounding"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grounding:hasAtomicProcessGrounding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  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grounding:WsdlAtomicProcessGrounding rdf:ID="sendSMS-wsdl"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    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!-- Input(s). --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    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!-- Output(s). --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    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!-- Operation. --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!-- WSDL document. --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    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grounding:wsdlDocument rdf:datatype="&amp;xsd;#string"&gt;http://163.162.173.94:10009/parlayx/smsSend.wsdl&lt;/grounding:wsdlDocument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    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!-- OWL-S process. --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    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grounding:owlsProcess rdf:resource="</a:t>
            </a:r>
            <a:r>
              <a:rPr b="1" lang="it-IT" sz="900" spc="-1" strike="noStrike">
                <a:solidFill>
                  <a:srgbClr val="f31107"/>
                </a:solidFill>
                <a:latin typeface="Franklin Gothic Medium"/>
              </a:rPr>
              <a:t>&amp;process-c;#sendSMS"/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    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rdfs:comment rdf:datatype="&amp;xsd;#string"&gt;Short Messaging  - sendSMS operation&lt;/rdfs:comment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 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/grounding:WsdlAtomicProcessGrounding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/grounding:hasAtomicProcessGrounding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service:supportedBy rdf:resource="#SendSMS"/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/grounding:WsdlGrounding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/service:supports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service:presents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 &lt;profile:Profile rdf:ID="SendSMS_Profile"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service:presentedBy rdf:resource="#SendSMS"/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rdf:datatype="&amp;xsd;#boolean"&gt;false&lt;/xOWLs:externalProvi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profile:contactInformation profile:serviceName rdf:datatype="&amp;xsd;#string"&gt;SendSMS&lt;/profile:serviceNa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xOWLs:externalProvider rdf:resource="-"/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profile:textDescription rdf:datatype="&amp;xsd;#string"&gt;Tilab Parlay X sendSMS- sendSMS.&lt;/profile:textDescription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xOWLs:isFree rdf:datatype="&amp;xsd;#boolean"&gt;true&lt;/xOWLs:isFre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profile:serviceParameter rdf:resource="</a:t>
            </a:r>
            <a:r>
              <a:rPr b="1" lang="it-IT" sz="900" spc="-1" strike="noStrike">
                <a:solidFill>
                  <a:srgbClr val="f31107"/>
                </a:solidFill>
                <a:latin typeface="Franklin Gothic Medium"/>
              </a:rPr>
              <a:t>&amp;profile-c;#ClientSide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"/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profile:serviceParameter rdf:resource="</a:t>
            </a:r>
            <a:r>
              <a:rPr b="1" lang="it-IT" sz="900" spc="-1" strike="noStrike">
                <a:solidFill>
                  <a:srgbClr val="f31107"/>
                </a:solidFill>
                <a:latin typeface="Franklin Gothic Medium"/>
              </a:rPr>
              <a:t>&amp;profile-c;#Any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"/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profile:serviceParameter rdf:resource="</a:t>
            </a:r>
            <a:r>
              <a:rPr b="1" lang="it-IT" sz="900" spc="-1" strike="noStrike">
                <a:solidFill>
                  <a:srgbClr val="f31107"/>
                </a:solidFill>
                <a:latin typeface="Franklin Gothic Medium"/>
              </a:rPr>
              <a:t>&amp;profile-c;#Consumer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"/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profile:serviceParameter rdf:resource="</a:t>
            </a:r>
            <a:r>
              <a:rPr b="1" lang="it-IT" sz="900" spc="-1" strike="noStrike">
                <a:solidFill>
                  <a:srgbClr val="f31107"/>
                </a:solidFill>
                <a:latin typeface="Franklin Gothic Medium"/>
              </a:rPr>
              <a:t>&amp;profile-c;#Model-1-4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"/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f31107"/>
                </a:solidFill>
                <a:latin typeface="Franklin Gothic Medium"/>
              </a:rPr>
              <a:t>&lt;xOWLs:serviceQuality rdf:resource="&amp;sQual-c;#guaranteted"/&gt;&lt;xOWLs:serviceQuality rdf:resource="&amp;sQual-c;#available"/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31107"/>
                </a:solidFill>
                <a:latin typeface="Franklin Gothic Medium"/>
              </a:rPr>
              <a:t>        </a:t>
            </a:r>
            <a:r>
              <a:rPr b="1" lang="it-IT" sz="900" spc="-1" strike="noStrike">
                <a:solidFill>
                  <a:srgbClr val="f31107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f31107"/>
                </a:solidFill>
                <a:latin typeface="Franklin Gothic Medium"/>
              </a:rPr>
              <a:t>&lt;xOWLs:serviceQuality rdf:resource="&amp;sQual-c;#std-reliability"/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31107"/>
                </a:solidFill>
                <a:latin typeface="Franklin Gothic Medium"/>
              </a:rPr>
              <a:t>       </a:t>
            </a:r>
            <a:r>
              <a:rPr b="1" lang="it-IT" sz="900" spc="-1" strike="noStrike">
                <a:solidFill>
                  <a:srgbClr val="f31107"/>
                </a:solidFill>
                <a:latin typeface="Franklin Gothic Medium"/>
              </a:rPr>
              <a:t>	</a:t>
            </a:r>
            <a:r>
              <a:rPr b="1" lang="it-IT" sz="900" spc="-1" strike="noStrike">
                <a:solidFill>
                  <a:srgbClr val="f31107"/>
                </a:solidFill>
                <a:latin typeface="Franklin Gothic Medium"/>
              </a:rPr>
              <a:t> </a:t>
            </a:r>
            <a:r>
              <a:rPr b="1" lang="it-IT" sz="900" spc="-1" strike="noStrike">
                <a:solidFill>
                  <a:srgbClr val="f31107"/>
                </a:solidFill>
                <a:latin typeface="Franklin Gothic Medium"/>
              </a:rPr>
              <a:t>&lt;xOWLs:serviceQuality rdf:resource="&amp;sQual-c;#std-speed"/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/profile:Profil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/service:presents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</a:t>
            </a:r>
            <a:r>
              <a:rPr b="1" lang="it-IT" sz="900" spc="-1" strike="noStrike">
                <a:solidFill>
                  <a:srgbClr val="f31107"/>
                </a:solidFill>
                <a:latin typeface="Franklin Gothic Medium"/>
              </a:rPr>
              <a:t>xOWLs:hasProvider rdf:resource="&amp;provider-c;#Tilab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"/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</a:t>
            </a: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&lt;/service:Service&gt;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Franklin Gothic Medium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71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1c23"/>
                </a:solidFill>
                <a:latin typeface="Bell Centennial SubCaption"/>
              </a:rPr>
              <a:t>Parlay X SendSMS in an extended OWL-S specification (an extract of some elements)</a:t>
            </a:r>
            <a:endParaRPr b="1" lang="en-US" sz="2000" spc="-1" strike="noStrike">
              <a:solidFill>
                <a:srgbClr val="ee1c23"/>
              </a:solidFill>
              <a:latin typeface="Bell Centennial SubCapt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79280" y="1628640"/>
            <a:ext cx="8217000" cy="27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Franklin Gothic Medium"/>
              </a:rPr>
              <a:t>&lt;process:AtomicProcess rdf:ID="</a:t>
            </a:r>
            <a:r>
              <a:rPr b="1" lang="it-IT" sz="1000" spc="-1" strike="noStrike">
                <a:solidFill>
                  <a:srgbClr val="f31107"/>
                </a:solidFill>
                <a:latin typeface="Franklin Gothic Medium"/>
              </a:rPr>
              <a:t>sendSms</a:t>
            </a:r>
            <a:r>
              <a:rPr b="1" lang="it-IT" sz="1000" spc="-1" strike="noStrike">
                <a:solidFill>
                  <a:srgbClr val="000000"/>
                </a:solidFill>
                <a:latin typeface="Franklin Gothic Medium"/>
              </a:rPr>
              <a:t>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Franklin Gothic Medium"/>
              </a:rPr>
              <a:t>    </a:t>
            </a:r>
            <a:r>
              <a:rPr b="1" lang="it-IT" sz="1000" spc="-1" strike="noStrike">
                <a:solidFill>
                  <a:srgbClr val="000000"/>
                </a:solidFill>
                <a:latin typeface="Franklin Gothic Medium"/>
              </a:rPr>
              <a:t>&lt;process:name rdf:datatype="&amp;xsd;#string"&gt;sendSms&lt;/process:na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Franklin Gothic Medium"/>
              </a:rPr>
              <a:t>    </a:t>
            </a:r>
            <a:r>
              <a:rPr b="1" lang="it-IT" sz="1000" spc="-1" strike="noStrike">
                <a:solidFill>
                  <a:srgbClr val="000000"/>
                </a:solidFill>
                <a:latin typeface="Franklin Gothic Medium"/>
              </a:rPr>
              <a:t>&lt;!-- sendSms's input parameters. --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31107"/>
                </a:solidFill>
                <a:latin typeface="Franklin Gothic Medium"/>
              </a:rPr>
              <a:t>    </a:t>
            </a:r>
            <a:r>
              <a:rPr b="1" lang="it-IT" sz="1000" spc="-1" strike="noStrike">
                <a:solidFill>
                  <a:srgbClr val="f31107"/>
                </a:solidFill>
                <a:latin typeface="Franklin Gothic Medium"/>
              </a:rPr>
              <a:t>	</a:t>
            </a:r>
            <a:r>
              <a:rPr b="1" lang="it-IT" sz="1000" spc="-1" strike="noStrike">
                <a:solidFill>
                  <a:srgbClr val="f31107"/>
                </a:solidFill>
                <a:latin typeface="Franklin Gothic Medium"/>
              </a:rPr>
              <a:t>&lt;xOWLs:hasInput rdf:resource="&amp;parameter-c;#smsBody"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31107"/>
                </a:solidFill>
                <a:latin typeface="Franklin Gothic Medium"/>
              </a:rPr>
              <a:t>    </a:t>
            </a:r>
            <a:r>
              <a:rPr b="1" lang="it-IT" sz="1000" spc="-1" strike="noStrike">
                <a:solidFill>
                  <a:srgbClr val="f31107"/>
                </a:solidFill>
                <a:latin typeface="Franklin Gothic Medium"/>
              </a:rPr>
              <a:t>	</a:t>
            </a:r>
            <a:r>
              <a:rPr b="1" lang="it-IT" sz="1000" spc="-1" strike="noStrike">
                <a:solidFill>
                  <a:srgbClr val="f31107"/>
                </a:solidFill>
                <a:latin typeface="Franklin Gothic Medium"/>
              </a:rPr>
              <a:t>&lt;xOWLs:hasInput rdf:resource="&amp;parameter-c;#phoneNumber"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31107"/>
                </a:solidFill>
                <a:latin typeface="Franklin Gothic Medium"/>
              </a:rPr>
              <a:t>    </a:t>
            </a:r>
            <a:r>
              <a:rPr b="1" lang="it-IT" sz="1000" spc="-1" strike="noStrike">
                <a:solidFill>
                  <a:srgbClr val="f31107"/>
                </a:solidFill>
                <a:latin typeface="Franklin Gothic Medium"/>
              </a:rPr>
              <a:t>	</a:t>
            </a:r>
            <a:r>
              <a:rPr b="1" lang="it-IT" sz="1000" spc="-1" strike="noStrike">
                <a:solidFill>
                  <a:srgbClr val="f31107"/>
                </a:solidFill>
                <a:latin typeface="Franklin Gothic Medium"/>
              </a:rPr>
              <a:t>&lt;xOWLs:hasInput rdf:resource="&amp;parameter-c;#destNumber"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31107"/>
                </a:solidFill>
                <a:latin typeface="Franklin Gothic Medium"/>
              </a:rPr>
              <a:t>	</a:t>
            </a:r>
            <a:r>
              <a:rPr b="1" lang="it-IT" sz="1000" spc="-1" strike="noStrike">
                <a:solidFill>
                  <a:srgbClr val="f31107"/>
                </a:solidFill>
                <a:latin typeface="Franklin Gothic Medium"/>
              </a:rPr>
              <a:t>&lt;xOWLs:hasInput rdf:resource="&amp;parameter-c;#chargingInfor"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Franklin Gothic Medium"/>
              </a:rPr>
              <a:t>    </a:t>
            </a:r>
            <a:r>
              <a:rPr b="1" lang="it-IT" sz="1000" spc="-1" strike="noStrike">
                <a:solidFill>
                  <a:srgbClr val="000000"/>
                </a:solidFill>
                <a:latin typeface="Franklin Gothic Medium"/>
              </a:rPr>
              <a:t>&lt;!-- sendSms's output parameters. --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Franklin Gothic Medium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Franklin Gothic Medium"/>
              </a:rPr>
              <a:t>&lt;!-- sendSms's effects. --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Franklin Gothic Medium"/>
              </a:rPr>
              <a:t>    </a:t>
            </a:r>
            <a:r>
              <a:rPr b="1" lang="it-IT" sz="1000" spc="-1" strike="noStrike">
                <a:solidFill>
                  <a:srgbClr val="000000"/>
                </a:solidFill>
                <a:latin typeface="Franklin Gothic Medium"/>
              </a:rPr>
              <a:t>&lt;process:hasEffect rdf:resource="</a:t>
            </a:r>
            <a:r>
              <a:rPr b="1" lang="it-IT" sz="1000" spc="-1" strike="noStrike">
                <a:solidFill>
                  <a:srgbClr val="f31107"/>
                </a:solidFill>
                <a:latin typeface="Franklin Gothic Medium"/>
              </a:rPr>
              <a:t>&amp;effect-c;#SendSms</a:t>
            </a:r>
            <a:r>
              <a:rPr b="1" lang="it-IT" sz="1000" spc="-1" strike="noStrike">
                <a:solidFill>
                  <a:srgbClr val="000000"/>
                </a:solidFill>
                <a:latin typeface="Franklin Gothic Medium"/>
              </a:rPr>
              <a:t>"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Franklin Gothic Medium"/>
              </a:rPr>
              <a:t>  </a:t>
            </a:r>
            <a:r>
              <a:rPr b="1" lang="it-IT" sz="1000" spc="-1" strike="noStrike">
                <a:solidFill>
                  <a:srgbClr val="000000"/>
                </a:solidFill>
                <a:latin typeface="Franklin Gothic Medium"/>
              </a:rPr>
              <a:t>&lt;/process:AtomicProcess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71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1c23"/>
                </a:solidFill>
                <a:latin typeface="Bell Centennial SubCaption"/>
              </a:rPr>
              <a:t>Parlay X SendSMS in an extended OWL-S specification (an extract of some elements)</a:t>
            </a:r>
            <a:endParaRPr b="1" lang="en-US" sz="2000" spc="-1" strike="noStrike">
              <a:solidFill>
                <a:srgbClr val="ee1c23"/>
              </a:solidFill>
              <a:latin typeface="Bell Centennial SubCapt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e1c23"/>
                </a:solidFill>
                <a:latin typeface="Bell Centennial SubCaption"/>
              </a:rPr>
              <a:t>TELECOMITALIA Opportunities </a:t>
            </a: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98560" y="1668240"/>
            <a:ext cx="74613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61800" indent="-36180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Centennial SubCaption"/>
              </a:rPr>
              <a:t>Provide requirements </a:t>
            </a:r>
            <a:r>
              <a:rPr b="0" lang="it-IT" sz="2000" spc="-1" strike="noStrike">
                <a:solidFill>
                  <a:srgbClr val="000000"/>
                </a:solidFill>
                <a:latin typeface="Bell Centennial SubCaption"/>
              </a:rPr>
              <a:t>to describe Telco oriented Web Services</a:t>
            </a: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marL="361800"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Centennial SubCaption"/>
              </a:rPr>
              <a:t>Define a USE CASE based on a Telco WS (e.g. TPPC, SendSMS)</a:t>
            </a: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marL="361800"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Centennial SubCaption"/>
              </a:rPr>
              <a:t>Availability to experiment WSDL 2.0 and SAWDSL for Parlay X WS</a:t>
            </a: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marL="361800"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Centennial SubCaption"/>
              </a:rPr>
              <a:t>Availability of a SOA testbed to leverage on semantic WS annotation for enhancing service discovery, composition and dynamic binding</a:t>
            </a: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marL="361800"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2170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ll Centennial SubCaption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rk was partially funded by </a:t>
            </a:r>
            <a:r>
              <a:rPr b="1" lang="en-US" sz="2400" spc="-1" strike="noStrike">
                <a:solidFill>
                  <a:srgbClr val="f31107"/>
                </a:solidFill>
                <a:latin typeface="Arial"/>
              </a:rPr>
              <a:t>SENSO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Software Engineering for Service-Oriented Overlay Computers) </a:t>
            </a:r>
            <a:endParaRPr b="0" lang="en-US" sz="2400" spc="-1" strike="noStrike">
              <a:solidFill>
                <a:srgbClr val="000000"/>
              </a:solidFill>
              <a:latin typeface="Bell Centennial SubCaption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T Projec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e1c23"/>
                </a:solidFill>
                <a:latin typeface="Bell Centennial SubCaption"/>
              </a:rPr>
              <a:t>Contact persons </a:t>
            </a: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82170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ell Centennial SubCaption"/>
              </a:rPr>
              <a:t>Service Layer and Messaging Innovation</a:t>
            </a:r>
            <a:endParaRPr b="0" lang="en-US" sz="2400" spc="-1" strike="noStrike">
              <a:solidFill>
                <a:srgbClr val="000000"/>
              </a:solidFill>
              <a:latin typeface="Bell Centennial SubCaptio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ell Centennial SubCaption"/>
              </a:rPr>
              <a:t>Project: </a:t>
            </a:r>
            <a:r>
              <a:rPr b="0" i="1" lang="en-US" sz="2000" spc="-1" strike="noStrike">
                <a:solidFill>
                  <a:srgbClr val="000000"/>
                </a:solidFill>
                <a:latin typeface="Bell Centennial SubCaption"/>
              </a:rPr>
              <a:t>Web Services e Identity Management</a:t>
            </a: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ell Centennial SubCaptio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ell Centennial SubCaption"/>
              </a:rPr>
              <a:t>Task: </a:t>
            </a:r>
            <a:r>
              <a:rPr b="0" i="1" lang="it-IT" sz="2000" spc="-1" strike="noStrike">
                <a:solidFill>
                  <a:srgbClr val="000000"/>
                </a:solidFill>
                <a:latin typeface="Bell Centennial SubCaption"/>
              </a:rPr>
              <a:t>T040V6D00911</a:t>
            </a: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algn="just">
              <a:lnSpc>
                <a:spcPct val="110000"/>
              </a:lnSpc>
              <a:spcBef>
                <a:spcPts val="524"/>
              </a:spcBef>
              <a:spcAft>
                <a:spcPts val="264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ell Centennial SubCaption"/>
              </a:rPr>
              <a:t>Ferrari Laura</a:t>
            </a:r>
            <a:endParaRPr b="0" lang="en-US" sz="2100" spc="-1" strike="noStrike">
              <a:solidFill>
                <a:srgbClr val="000000"/>
              </a:solidFill>
              <a:latin typeface="Bell Centennial SubCaption"/>
            </a:endParaRPr>
          </a:p>
          <a:p>
            <a:pPr algn="just">
              <a:lnSpc>
                <a:spcPct val="110000"/>
              </a:lnSpc>
              <a:spcBef>
                <a:spcPts val="524"/>
              </a:spcBef>
              <a:spcAft>
                <a:spcPts val="264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ell Centennial SubCaption"/>
              </a:rPr>
              <a:t>Venezia Claudio</a:t>
            </a:r>
            <a:endParaRPr b="0" lang="en-US" sz="21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8280" y="1483920"/>
            <a:ext cx="82170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ell Centennial SubCaption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1107"/>
                </a:solidFill>
                <a:latin typeface="Arial"/>
              </a:rPr>
              <a:t>THANK YOU!</a:t>
            </a:r>
            <a:endParaRPr b="0" lang="en-US" sz="28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e1c23"/>
                </a:solidFill>
                <a:latin typeface="Bell Centennial SubCaption"/>
              </a:rPr>
              <a:t>OUTLINE</a:t>
            </a: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82170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Centennial SubCaption"/>
              </a:rPr>
              <a:t>Telecom Italia Service Layer  and MI Area and main innovation activities</a:t>
            </a: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Centennial SubCaption"/>
              </a:rPr>
              <a:t>TELCO Operators and SOA</a:t>
            </a: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Centennial SubCaption"/>
              </a:rPr>
              <a:t>Telecom Italia expertise in Semantic Web Service</a:t>
            </a: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Centennial SubCaption"/>
              </a:rPr>
              <a:t>Parlay X Telco WS and Semantic Web Description</a:t>
            </a: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1360" y="692280"/>
            <a:ext cx="821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e1c23"/>
                </a:solidFill>
                <a:latin typeface="Bell Centennial SubCaption"/>
              </a:rPr>
              <a:t>Service Layer  and MI main innovation activities</a:t>
            </a: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138" name=""/>
          <p:cNvSpPr/>
          <p:nvPr/>
        </p:nvSpPr>
        <p:spPr>
          <a:xfrm>
            <a:off x="2556000" y="1844640"/>
            <a:ext cx="3744720" cy="3384720"/>
          </a:xfrm>
          <a:prstGeom prst="sun">
            <a:avLst>
              <a:gd name="adj" fmla="val 25000"/>
            </a:avLst>
          </a:prstGeom>
          <a:solidFill>
            <a:srgbClr val="f311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27680" y="1863720"/>
            <a:ext cx="28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r and SIP technology 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72360" y="3213000"/>
            <a:ext cx="23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otive Mob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ing 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14200" y="1268280"/>
            <a:ext cx="28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Layer 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10160" y="1700280"/>
            <a:ext cx="175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Ident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40960" y="3014640"/>
            <a:ext cx="141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69640" y="4581360"/>
            <a:ext cx="282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on and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4581360"/>
            <a:ext cx="149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4480" y="653760"/>
            <a:ext cx="820404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1c23"/>
                </a:solidFill>
                <a:latin typeface="Bell Centennial SubCaption"/>
              </a:rPr>
              <a:t>Service Layer and Messaging Innovation overview</a:t>
            </a:r>
            <a:endParaRPr b="1" lang="en-US" sz="20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147" name=""/>
          <p:cNvSpPr/>
          <p:nvPr/>
        </p:nvSpPr>
        <p:spPr>
          <a:xfrm>
            <a:off x="7016760" y="3166920"/>
            <a:ext cx="205596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2P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51280" y="4854600"/>
            <a:ext cx="2446200" cy="563400"/>
          </a:xfrm>
          <a:prstGeom prst="ellipse">
            <a:avLst/>
          </a:prstGeom>
          <a:solidFill>
            <a:srgbClr val="f31107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ete 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92720" y="2143080"/>
            <a:ext cx="900360" cy="1557360"/>
          </a:xfrm>
          <a:prstGeom prst="ellipse">
            <a:avLst/>
          </a:prstGeom>
          <a:solidFill>
            <a:srgbClr val="f31107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ecnolog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2708280"/>
            <a:ext cx="811080" cy="1936800"/>
          </a:xfrm>
          <a:prstGeom prst="ellipse">
            <a:avLst/>
          </a:prstGeom>
          <a:solidFill>
            <a:srgbClr val="f31107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Gestione e Sicurez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39840" y="3078000"/>
            <a:ext cx="811080" cy="1776600"/>
          </a:xfrm>
          <a:prstGeom prst="ellipse">
            <a:avLst/>
          </a:prstGeom>
          <a:solidFill>
            <a:srgbClr val="f31107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ermin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 rot="5400000">
            <a:off x="2467800" y="3456720"/>
            <a:ext cx="1084320" cy="2340000"/>
          </a:xfrm>
          <a:prstGeom prst="ellipse">
            <a:avLst/>
          </a:prstGeom>
          <a:solidFill>
            <a:srgbClr val="f31107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e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 rot="5400000">
            <a:off x="4808520" y="3456000"/>
            <a:ext cx="1084320" cy="2341440"/>
          </a:xfrm>
          <a:prstGeom prst="ellipse">
            <a:avLst/>
          </a:prstGeom>
          <a:solidFill>
            <a:srgbClr val="f31107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e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Fis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39960" y="3438360"/>
            <a:ext cx="4681440" cy="968400"/>
          </a:xfrm>
          <a:prstGeom prst="ellipse">
            <a:avLst/>
          </a:prstGeom>
          <a:solidFill>
            <a:srgbClr val="f31107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ontrol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39960" y="2616120"/>
            <a:ext cx="4681440" cy="960480"/>
          </a:xfrm>
          <a:prstGeom prst="ellipse">
            <a:avLst/>
          </a:prstGeom>
          <a:solidFill>
            <a:srgbClr val="f31107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ervic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14960" y="2098800"/>
            <a:ext cx="1800000" cy="860400"/>
          </a:xfrm>
          <a:prstGeom prst="ellipse">
            <a:avLst/>
          </a:prstGeom>
          <a:solidFill>
            <a:srgbClr val="f31107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ervi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9600" y="2098800"/>
            <a:ext cx="1800360" cy="860400"/>
          </a:xfrm>
          <a:prstGeom prst="ellipse">
            <a:avLst/>
          </a:prstGeom>
          <a:solidFill>
            <a:srgbClr val="f31107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ervi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40120" y="1069920"/>
            <a:ext cx="1560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 Services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k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2"/>
            <a:endCxn id="160" idx="1"/>
          </p:cNvCxnSpPr>
          <p:nvPr/>
        </p:nvCxnSpPr>
        <p:spPr>
          <a:xfrm rot="5400000">
            <a:off x="3018600" y="1736280"/>
            <a:ext cx="810360" cy="594360"/>
          </a:xfrm>
          <a:prstGeom prst="curvedConnector5">
            <a:avLst>
              <a:gd name="adj1" fmla="val 48000"/>
              <a:gd name="adj2" fmla="val 50000"/>
              <a:gd name="adj3" fmla="val 48000"/>
            </a:avLst>
          </a:prstGeom>
          <a:ln cap="sq" w="158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62" idx="1"/>
            <a:endCxn id="151" idx="6"/>
          </p:cNvCxnSpPr>
          <p:nvPr/>
        </p:nvCxnSpPr>
        <p:spPr>
          <a:xfrm rot="10800000">
            <a:off x="2064600" y="3966480"/>
            <a:ext cx="1786680" cy="1797840"/>
          </a:xfrm>
          <a:prstGeom prst="curvedConnector5">
            <a:avLst>
              <a:gd name="adj1" fmla="val 50382"/>
              <a:gd name="adj2" fmla="val 49989"/>
              <a:gd name="adj3" fmla="val 50382"/>
            </a:avLst>
          </a:prstGeom>
          <a:ln cap="sq" w="1584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6624720" y="4406760"/>
            <a:ext cx="2519280" cy="56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uting 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1"/>
          </p:cNvCxnSpPr>
          <p:nvPr/>
        </p:nvCxnSpPr>
        <p:spPr>
          <a:xfrm rot="10800000">
            <a:off x="4695120" y="3115440"/>
            <a:ext cx="1929600" cy="1593000"/>
          </a:xfrm>
          <a:prstGeom prst="curvedConnector5">
            <a:avLst>
              <a:gd name="adj1" fmla="val 49953"/>
              <a:gd name="adj2" fmla="val 50000"/>
              <a:gd name="adj3" fmla="val 49953"/>
            </a:avLst>
          </a:prstGeom>
          <a:ln cap="sq" w="1584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4089240" y="3471840"/>
            <a:ext cx="179640" cy="20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47" idx="0"/>
            <a:endCxn id="167" idx="6"/>
          </p:cNvCxnSpPr>
          <p:nvPr/>
        </p:nvCxnSpPr>
        <p:spPr>
          <a:xfrm flipV="1" rot="16200000">
            <a:off x="7421040" y="2542680"/>
            <a:ext cx="103680" cy="1145160"/>
          </a:xfrm>
          <a:prstGeom prst="curvedConnector2">
            <a:avLst/>
          </a:prstGeom>
          <a:ln cap="sq" w="1584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6721560" y="2959200"/>
            <a:ext cx="179280" cy="20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32360" y="2330280"/>
            <a:ext cx="179280" cy="20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00320" y="2408400"/>
            <a:ext cx="179280" cy="20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3094200"/>
            <a:ext cx="179280" cy="20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09600" y="3271680"/>
            <a:ext cx="179640" cy="20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3440" y="3825720"/>
            <a:ext cx="179280" cy="20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51280" y="5589720"/>
            <a:ext cx="28144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col Stack SIP/I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1052640"/>
            <a:ext cx="28875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E e SL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nomic 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72" idx="2"/>
            <a:endCxn id="168" idx="0"/>
          </p:cNvCxnSpPr>
          <p:nvPr/>
        </p:nvCxnSpPr>
        <p:spPr>
          <a:xfrm rot="5400000">
            <a:off x="5384160" y="1482120"/>
            <a:ext cx="486360" cy="1210680"/>
          </a:xfrm>
          <a:prstGeom prst="curvedConnector5">
            <a:avLst>
              <a:gd name="adj1" fmla="val 49629"/>
              <a:gd name="adj2" fmla="val 50000"/>
              <a:gd name="adj3" fmla="val 49629"/>
            </a:avLst>
          </a:prstGeom>
          <a:ln cap="sq" w="1584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7020000" y="1557360"/>
            <a:ext cx="21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F collaboration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motive ngn onboar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4" idx="2"/>
            <a:endCxn id="169" idx="6"/>
          </p:cNvCxnSpPr>
          <p:nvPr/>
        </p:nvCxnSpPr>
        <p:spPr>
          <a:xfrm rot="5400000">
            <a:off x="5960160" y="1077840"/>
            <a:ext cx="912240" cy="3331440"/>
          </a:xfrm>
          <a:prstGeom prst="curvedConnector2">
            <a:avLst/>
          </a:prstGeom>
          <a:ln cap="sq" w="1584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2379600" y="3238560"/>
            <a:ext cx="1800360" cy="466560"/>
          </a:xfrm>
          <a:prstGeom prst="ellipse">
            <a:avLst/>
          </a:prstGeom>
          <a:solidFill>
            <a:srgbClr val="f31107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nabl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6000" y="1584360"/>
            <a:ext cx="27716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ablers IMS/SIP (Presence, IM, Conferencing, ..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7" idx="2"/>
          </p:cNvCxnSpPr>
          <p:nvPr/>
        </p:nvCxnSpPr>
        <p:spPr>
          <a:xfrm flipH="1" rot="16200000">
            <a:off x="1505520" y="2156040"/>
            <a:ext cx="1251720" cy="1059840"/>
          </a:xfrm>
          <a:prstGeom prst="curvedConnector5">
            <a:avLst>
              <a:gd name="adj1" fmla="val 50000"/>
              <a:gd name="adj2" fmla="val 49983"/>
              <a:gd name="adj3" fmla="val 50000"/>
            </a:avLst>
          </a:prstGeom>
          <a:ln cap="sq" w="1584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1332000" y="1989000"/>
            <a:ext cx="5661000" cy="1818000"/>
          </a:xfrm>
          <a:custGeom>
            <a:avLst/>
            <a:gdLst/>
            <a:ahLst/>
            <a:rect l="l" t="t" r="r" b="b"/>
            <a:pathLst>
              <a:path w="3537" h="1321">
                <a:moveTo>
                  <a:pt x="694" y="179"/>
                </a:moveTo>
                <a:cubicBezTo>
                  <a:pt x="805" y="104"/>
                  <a:pt x="989" y="56"/>
                  <a:pt x="1147" y="28"/>
                </a:cubicBezTo>
                <a:cubicBezTo>
                  <a:pt x="1305" y="0"/>
                  <a:pt x="1510" y="7"/>
                  <a:pt x="1644" y="12"/>
                </a:cubicBezTo>
                <a:cubicBezTo>
                  <a:pt x="1778" y="17"/>
                  <a:pt x="1796" y="57"/>
                  <a:pt x="1950" y="61"/>
                </a:cubicBezTo>
                <a:cubicBezTo>
                  <a:pt x="2108" y="47"/>
                  <a:pt x="2417" y="35"/>
                  <a:pt x="2566" y="39"/>
                </a:cubicBezTo>
                <a:cubicBezTo>
                  <a:pt x="2715" y="43"/>
                  <a:pt x="2724" y="49"/>
                  <a:pt x="2842" y="88"/>
                </a:cubicBezTo>
                <a:cubicBezTo>
                  <a:pt x="2956" y="133"/>
                  <a:pt x="3163" y="225"/>
                  <a:pt x="3274" y="272"/>
                </a:cubicBezTo>
                <a:cubicBezTo>
                  <a:pt x="3371" y="322"/>
                  <a:pt x="3384" y="334"/>
                  <a:pt x="3426" y="388"/>
                </a:cubicBezTo>
                <a:cubicBezTo>
                  <a:pt x="3468" y="442"/>
                  <a:pt x="3511" y="522"/>
                  <a:pt x="3524" y="599"/>
                </a:cubicBezTo>
                <a:cubicBezTo>
                  <a:pt x="3537" y="676"/>
                  <a:pt x="3532" y="759"/>
                  <a:pt x="3507" y="850"/>
                </a:cubicBezTo>
                <a:cubicBezTo>
                  <a:pt x="3482" y="941"/>
                  <a:pt x="3473" y="1070"/>
                  <a:pt x="3377" y="1142"/>
                </a:cubicBezTo>
                <a:cubicBezTo>
                  <a:pt x="3281" y="1214"/>
                  <a:pt x="3096" y="1263"/>
                  <a:pt x="2933" y="1282"/>
                </a:cubicBezTo>
                <a:cubicBezTo>
                  <a:pt x="2770" y="1301"/>
                  <a:pt x="2633" y="1266"/>
                  <a:pt x="2398" y="1258"/>
                </a:cubicBezTo>
                <a:cubicBezTo>
                  <a:pt x="2163" y="1250"/>
                  <a:pt x="1748" y="1234"/>
                  <a:pt x="1526" y="1233"/>
                </a:cubicBezTo>
                <a:cubicBezTo>
                  <a:pt x="1304" y="1232"/>
                  <a:pt x="1243" y="1236"/>
                  <a:pt x="1067" y="1250"/>
                </a:cubicBezTo>
                <a:cubicBezTo>
                  <a:pt x="891" y="1264"/>
                  <a:pt x="613" y="1321"/>
                  <a:pt x="467" y="1315"/>
                </a:cubicBezTo>
                <a:cubicBezTo>
                  <a:pt x="321" y="1309"/>
                  <a:pt x="263" y="1263"/>
                  <a:pt x="191" y="1217"/>
                </a:cubicBezTo>
                <a:cubicBezTo>
                  <a:pt x="119" y="1171"/>
                  <a:pt x="64" y="1109"/>
                  <a:pt x="35" y="1037"/>
                </a:cubicBezTo>
                <a:cubicBezTo>
                  <a:pt x="6" y="965"/>
                  <a:pt x="0" y="860"/>
                  <a:pt x="19" y="786"/>
                </a:cubicBezTo>
                <a:cubicBezTo>
                  <a:pt x="38" y="712"/>
                  <a:pt x="72" y="642"/>
                  <a:pt x="149" y="591"/>
                </a:cubicBezTo>
                <a:cubicBezTo>
                  <a:pt x="226" y="540"/>
                  <a:pt x="392" y="548"/>
                  <a:pt x="483" y="479"/>
                </a:cubicBezTo>
                <a:cubicBezTo>
                  <a:pt x="574" y="410"/>
                  <a:pt x="598" y="257"/>
                  <a:pt x="694" y="179"/>
                </a:cubicBezTo>
                <a:close/>
              </a:path>
            </a:pathLst>
          </a:custGeom>
          <a:solidFill>
            <a:srgbClr val="7eade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81" idx="0"/>
          </p:cNvCxnSpPr>
          <p:nvPr/>
        </p:nvCxnSpPr>
        <p:spPr>
          <a:xfrm flipH="1" flipV="1" rot="5400000">
            <a:off x="1549080" y="3952440"/>
            <a:ext cx="1343520" cy="1169280"/>
          </a:xfrm>
          <a:prstGeom prst="curvedConnector5">
            <a:avLst>
              <a:gd name="adj1" fmla="val 49986"/>
              <a:gd name="adj2" fmla="val 49984"/>
              <a:gd name="adj3" fmla="val 49986"/>
            </a:avLst>
          </a:prstGeom>
          <a:ln cap="sq" w="1584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250920" y="5208480"/>
            <a:ext cx="277164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Service Enablers (Conferencing audio/video, MRF, Location, 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74480" y="772920"/>
            <a:ext cx="820404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31107"/>
                </a:solidFill>
                <a:latin typeface="Bell Centennial SubCaption"/>
              </a:rPr>
              <a:t>IES/Control &amp; Service Layer</a:t>
            </a:r>
            <a:br>
              <a:rPr sz="1800"/>
            </a:br>
            <a:r>
              <a:rPr b="1" lang="en-GB" sz="1800" spc="-1" strike="noStrike">
                <a:solidFill>
                  <a:srgbClr val="595959"/>
                </a:solidFill>
                <a:latin typeface="Bell Centennial SubCaption"/>
              </a:rPr>
              <a:t>Service Layer and Messaging Innovation</a:t>
            </a:r>
            <a:endParaRPr b="1" lang="en-US" sz="18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63680" y="1101600"/>
          <a:ext cx="8216640" cy="2471760"/>
        </p:xfrm>
        <a:graphic>
          <a:graphicData uri="http://schemas.openxmlformats.org/drawingml/2006/table">
            <a:tbl>
              <a:tblPr/>
              <a:tblGrid>
                <a:gridCol w="8216640"/>
              </a:tblGrid>
              <a:tr h="50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Bell Centennial SubCaption"/>
                        </a:rPr>
                        <a:t>SL functional archite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31107"/>
                    </a:solidFill>
                  </a:tcPr>
                </a:tc>
              </a:tr>
              <a:tr h="196200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 indent="-90360"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 rot="16200000">
            <a:off x="-760320" y="4279680"/>
            <a:ext cx="3027600" cy="716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br>
              <a:rPr sz="1200"/>
            </a:b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12840" y="5191200"/>
            <a:ext cx="6094440" cy="5414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ONTROL</a:t>
            </a:r>
            <a:br>
              <a:rPr sz="1200"/>
            </a:b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03440" y="6031080"/>
            <a:ext cx="1611360" cy="222120"/>
          </a:xfrm>
          <a:prstGeom prst="rect">
            <a:avLst/>
          </a:prstGeom>
          <a:solidFill>
            <a:srgbClr val="ccff3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5680" y="6162840"/>
            <a:ext cx="1131840" cy="6192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01880" y="6148440"/>
            <a:ext cx="390960" cy="1828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17600" y="6148440"/>
            <a:ext cx="51120" cy="1828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34080" y="6148440"/>
            <a:ext cx="808560" cy="1828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30680" y="5946840"/>
            <a:ext cx="5628960" cy="404640"/>
          </a:xfrm>
          <a:prstGeom prst="rect">
            <a:avLst/>
          </a:prstGeom>
          <a:solidFill>
            <a:srgbClr val="ccff33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5978520"/>
            <a:ext cx="1299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inal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5400" y="6145200"/>
            <a:ext cx="2203560" cy="1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 applicatio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05080" y="5762520"/>
            <a:ext cx="6226200" cy="18576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ss &amp; Transport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16320" y="5246640"/>
            <a:ext cx="4003560" cy="4190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Network</a:t>
            </a:r>
            <a:br>
              <a:rPr sz="1000"/>
            </a:b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ntrol</a:t>
            </a:r>
            <a:br>
              <a:rPr sz="1000"/>
            </a:b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867480" y="5306760"/>
            <a:ext cx="435600" cy="334080"/>
            <a:chOff x="3867480" y="5306760"/>
            <a:chExt cx="435600" cy="334080"/>
          </a:xfrm>
        </p:grpSpPr>
        <p:sp>
          <p:nvSpPr>
            <p:cNvPr id="197" name=""/>
            <p:cNvSpPr/>
            <p:nvPr/>
          </p:nvSpPr>
          <p:spPr>
            <a:xfrm flipH="1" rot="21481200">
              <a:off x="4021920" y="5308200"/>
              <a:ext cx="96120" cy="964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rot="21481200">
              <a:off x="3963600" y="5311440"/>
              <a:ext cx="71640" cy="1062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3867480" y="5319720"/>
              <a:ext cx="435600" cy="321120"/>
              <a:chOff x="3867480" y="5319720"/>
              <a:chExt cx="435600" cy="321120"/>
            </a:xfrm>
          </p:grpSpPr>
          <p:sp>
            <p:nvSpPr>
              <p:cNvPr id="200" name=""/>
              <p:cNvSpPr/>
              <p:nvPr/>
            </p:nvSpPr>
            <p:spPr>
              <a:xfrm flipH="1" rot="21481200">
                <a:off x="4099320" y="5320800"/>
                <a:ext cx="78120" cy="1180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1481200">
                <a:off x="3869640" y="5401800"/>
                <a:ext cx="129600" cy="1494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rot="21481200">
                <a:off x="4119840" y="5483520"/>
                <a:ext cx="113760" cy="1414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21481200">
                <a:off x="3940200" y="5479920"/>
                <a:ext cx="84960" cy="1278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rot="21481200">
                <a:off x="4174560" y="5467320"/>
                <a:ext cx="108720" cy="961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 rot="21481200">
                <a:off x="4237560" y="5394600"/>
                <a:ext cx="63720" cy="964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 rot="21481200">
                <a:off x="4130640" y="5335920"/>
                <a:ext cx="147960" cy="1501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21481200">
                <a:off x="4006080" y="5488560"/>
                <a:ext cx="144000" cy="1494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rot="21481200">
                <a:off x="3896280" y="5335200"/>
                <a:ext cx="108720" cy="1177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 flipH="1">
              <a:off x="3888720" y="5328360"/>
              <a:ext cx="397440" cy="278640"/>
            </a:xfrm>
            <a:custGeom>
              <a:avLst/>
              <a:gdLst/>
              <a:ahLst/>
              <a:rect l="l" t="t" r="r" b="b"/>
              <a:pathLst>
                <a:path w="6600" h="3168">
                  <a:moveTo>
                    <a:pt x="3180" y="0"/>
                  </a:moveTo>
                  <a:cubicBezTo>
                    <a:pt x="3134" y="15"/>
                    <a:pt x="3096" y="38"/>
                    <a:pt x="3048" y="48"/>
                  </a:cubicBezTo>
                  <a:cubicBezTo>
                    <a:pt x="2913" y="77"/>
                    <a:pt x="2966" y="53"/>
                    <a:pt x="2904" y="84"/>
                  </a:cubicBezTo>
                  <a:lnTo>
                    <a:pt x="2568" y="96"/>
                  </a:lnTo>
                  <a:lnTo>
                    <a:pt x="1740" y="216"/>
                  </a:lnTo>
                  <a:lnTo>
                    <a:pt x="480" y="564"/>
                  </a:lnTo>
                  <a:lnTo>
                    <a:pt x="204" y="720"/>
                  </a:lnTo>
                  <a:lnTo>
                    <a:pt x="24" y="924"/>
                  </a:lnTo>
                  <a:lnTo>
                    <a:pt x="0" y="1560"/>
                  </a:lnTo>
                  <a:lnTo>
                    <a:pt x="264" y="2028"/>
                  </a:lnTo>
                  <a:lnTo>
                    <a:pt x="744" y="2544"/>
                  </a:lnTo>
                  <a:lnTo>
                    <a:pt x="1128" y="2868"/>
                  </a:lnTo>
                  <a:lnTo>
                    <a:pt x="2148" y="3108"/>
                  </a:lnTo>
                  <a:lnTo>
                    <a:pt x="2700" y="3168"/>
                  </a:lnTo>
                  <a:lnTo>
                    <a:pt x="4212" y="3096"/>
                  </a:lnTo>
                  <a:lnTo>
                    <a:pt x="4848" y="2952"/>
                  </a:lnTo>
                  <a:lnTo>
                    <a:pt x="5628" y="2604"/>
                  </a:lnTo>
                  <a:lnTo>
                    <a:pt x="5976" y="2352"/>
                  </a:lnTo>
                  <a:lnTo>
                    <a:pt x="6600" y="1236"/>
                  </a:lnTo>
                  <a:lnTo>
                    <a:pt x="6288" y="852"/>
                  </a:lnTo>
                  <a:lnTo>
                    <a:pt x="5592" y="240"/>
                  </a:lnTo>
                  <a:lnTo>
                    <a:pt x="5172" y="108"/>
                  </a:lnTo>
                  <a:lnTo>
                    <a:pt x="4188" y="48"/>
                  </a:lnTo>
                  <a:lnTo>
                    <a:pt x="318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17960" y="5386320"/>
              <a:ext cx="165240" cy="172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4036680" y="5432040"/>
              <a:ext cx="127440" cy="81360"/>
              <a:chOff x="4036680" y="5432040"/>
              <a:chExt cx="127440" cy="81360"/>
            </a:xfrm>
          </p:grpSpPr>
          <p:sp>
            <p:nvSpPr>
              <p:cNvPr id="212" name=""/>
              <p:cNvSpPr/>
              <p:nvPr/>
            </p:nvSpPr>
            <p:spPr>
              <a:xfrm>
                <a:off x="4036680" y="5513400"/>
                <a:ext cx="4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4079160" y="5432040"/>
                <a:ext cx="42480" cy="8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79160" y="5432400"/>
                <a:ext cx="42480" cy="8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21640" y="5513400"/>
                <a:ext cx="4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4684320" y="5339520"/>
            <a:ext cx="1215720" cy="264240"/>
            <a:chOff x="4684320" y="5339520"/>
            <a:chExt cx="1215720" cy="264240"/>
          </a:xfrm>
        </p:grpSpPr>
        <p:grpSp>
          <p:nvGrpSpPr>
            <p:cNvPr id="217" name=""/>
            <p:cNvGrpSpPr/>
            <p:nvPr/>
          </p:nvGrpSpPr>
          <p:grpSpPr>
            <a:xfrm>
              <a:off x="4966560" y="5339520"/>
              <a:ext cx="649080" cy="262080"/>
              <a:chOff x="4966560" y="5339520"/>
              <a:chExt cx="649080" cy="262080"/>
            </a:xfrm>
          </p:grpSpPr>
          <p:sp>
            <p:nvSpPr>
              <p:cNvPr id="218" name=""/>
              <p:cNvSpPr/>
              <p:nvPr/>
            </p:nvSpPr>
            <p:spPr>
              <a:xfrm flipH="1" rot="21481200">
                <a:off x="5194440" y="5341680"/>
                <a:ext cx="144720" cy="748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21481200">
                <a:off x="5109840" y="5344920"/>
                <a:ext cx="107280" cy="824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4966560" y="5348520"/>
                <a:ext cx="649080" cy="253080"/>
                <a:chOff x="4966560" y="5348520"/>
                <a:chExt cx="649080" cy="253080"/>
              </a:xfrm>
            </p:grpSpPr>
            <p:sp>
              <p:nvSpPr>
                <p:cNvPr id="221" name=""/>
                <p:cNvSpPr/>
                <p:nvPr/>
              </p:nvSpPr>
              <p:spPr>
                <a:xfrm flipH="1" rot="21481200">
                  <a:off x="5312520" y="5350320"/>
                  <a:ext cx="117000" cy="9216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 rot="21481200">
                  <a:off x="4968360" y="5413680"/>
                  <a:ext cx="194040" cy="1159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 rot="21481200">
                  <a:off x="5342760" y="5476680"/>
                  <a:ext cx="170280" cy="11016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H="1" rot="21481200">
                  <a:off x="5073480" y="5474160"/>
                  <a:ext cx="127440" cy="997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 rot="21481200">
                  <a:off x="5424480" y="5464440"/>
                  <a:ext cx="163080" cy="748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 rot="21481200">
                  <a:off x="5518800" y="5408280"/>
                  <a:ext cx="95400" cy="752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 rot="21481200">
                  <a:off x="5359320" y="5362200"/>
                  <a:ext cx="221400" cy="11700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 rot="21481200">
                  <a:off x="5172480" y="5481360"/>
                  <a:ext cx="215640" cy="1162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rot="21481200">
                  <a:off x="5008320" y="5361480"/>
                  <a:ext cx="162720" cy="910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 flipH="1">
                <a:off x="4996440" y="5357880"/>
                <a:ext cx="594000" cy="216720"/>
              </a:xfrm>
              <a:custGeom>
                <a:avLst/>
                <a:gdLst/>
                <a:ahLst/>
                <a:rect l="l" t="t" r="r" b="b"/>
                <a:pathLst>
                  <a:path w="6600" h="3168">
                    <a:moveTo>
                      <a:pt x="3180" y="0"/>
                    </a:moveTo>
                    <a:cubicBezTo>
                      <a:pt x="3134" y="15"/>
                      <a:pt x="3096" y="38"/>
                      <a:pt x="3048" y="48"/>
                    </a:cubicBezTo>
                    <a:cubicBezTo>
                      <a:pt x="2913" y="77"/>
                      <a:pt x="2966" y="53"/>
                      <a:pt x="2904" y="84"/>
                    </a:cubicBezTo>
                    <a:lnTo>
                      <a:pt x="2568" y="96"/>
                    </a:lnTo>
                    <a:lnTo>
                      <a:pt x="1740" y="216"/>
                    </a:lnTo>
                    <a:lnTo>
                      <a:pt x="480" y="564"/>
                    </a:lnTo>
                    <a:lnTo>
                      <a:pt x="204" y="720"/>
                    </a:lnTo>
                    <a:lnTo>
                      <a:pt x="24" y="924"/>
                    </a:lnTo>
                    <a:lnTo>
                      <a:pt x="0" y="1560"/>
                    </a:lnTo>
                    <a:lnTo>
                      <a:pt x="264" y="2028"/>
                    </a:lnTo>
                    <a:lnTo>
                      <a:pt x="744" y="2544"/>
                    </a:lnTo>
                    <a:lnTo>
                      <a:pt x="1128" y="2868"/>
                    </a:lnTo>
                    <a:lnTo>
                      <a:pt x="2148" y="3108"/>
                    </a:lnTo>
                    <a:lnTo>
                      <a:pt x="2700" y="3168"/>
                    </a:lnTo>
                    <a:lnTo>
                      <a:pt x="4212" y="3096"/>
                    </a:lnTo>
                    <a:lnTo>
                      <a:pt x="4848" y="2952"/>
                    </a:lnTo>
                    <a:lnTo>
                      <a:pt x="5628" y="2604"/>
                    </a:lnTo>
                    <a:lnTo>
                      <a:pt x="5976" y="2352"/>
                    </a:lnTo>
                    <a:lnTo>
                      <a:pt x="6600" y="1236"/>
                    </a:lnTo>
                    <a:lnTo>
                      <a:pt x="6288" y="852"/>
                    </a:lnTo>
                    <a:lnTo>
                      <a:pt x="5592" y="240"/>
                    </a:lnTo>
                    <a:lnTo>
                      <a:pt x="5172" y="108"/>
                    </a:lnTo>
                    <a:lnTo>
                      <a:pt x="4188" y="48"/>
                    </a:lnTo>
                    <a:lnTo>
                      <a:pt x="318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4684320" y="5374440"/>
              <a:ext cx="1215720" cy="2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SC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612880" y="5329080"/>
            <a:ext cx="621000" cy="2667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QoS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2840" y="2492280"/>
            <a:ext cx="7462800" cy="2405160"/>
          </a:xfrm>
          <a:prstGeom prst="rect">
            <a:avLst/>
          </a:prstGeom>
          <a:solidFill>
            <a:srgbClr val="cc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1200"/>
            </a:b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55760" y="3932280"/>
            <a:ext cx="834840" cy="17319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22560" y="4952880"/>
            <a:ext cx="189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Network Control Protoc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22360" y="4803840"/>
            <a:ext cx="523800" cy="338040"/>
          </a:xfrm>
          <a:prstGeom prst="can">
            <a:avLst>
              <a:gd name="adj" fmla="val 36333"/>
            </a:avLst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22360" y="4156200"/>
            <a:ext cx="523800" cy="33480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m.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06680" y="4498920"/>
            <a:ext cx="525240" cy="336600"/>
          </a:xfrm>
          <a:prstGeom prst="can">
            <a:avLst>
              <a:gd name="adj" fmla="val 36333"/>
            </a:avLst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92280" y="5145120"/>
            <a:ext cx="523800" cy="334800"/>
          </a:xfrm>
          <a:prstGeom prst="can">
            <a:avLst>
              <a:gd name="adj" fmla="val 36333"/>
            </a:avLst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1901880"/>
            <a:ext cx="2019600" cy="3999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arty platform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24320" y="1811160"/>
            <a:ext cx="2062080" cy="4003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arty domai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es. Service Provider, Corpora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0680" y="3973680"/>
            <a:ext cx="466560" cy="473040"/>
          </a:xfrm>
          <a:prstGeom prst="rect">
            <a:avLst/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0680" y="3224160"/>
            <a:ext cx="466560" cy="473040"/>
          </a:xfrm>
          <a:prstGeom prst="rect">
            <a:avLst/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1081800" y="3358440"/>
            <a:ext cx="247680" cy="379440"/>
          </a:xfrm>
          <a:prstGeom prst="upDownArrow">
            <a:avLst>
              <a:gd name="adj1" fmla="val 50000"/>
              <a:gd name="adj2" fmla="val 30497"/>
            </a:avLst>
          </a:prstGeom>
          <a:solidFill>
            <a:srgbClr val="ccc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65480" y="1906560"/>
            <a:ext cx="777600" cy="33804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51000" y="1700280"/>
            <a:ext cx="776520" cy="3366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59320" y="2674800"/>
            <a:ext cx="1488960" cy="34128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 Expo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76720" y="2259000"/>
            <a:ext cx="255600" cy="431640"/>
          </a:xfrm>
          <a:prstGeom prst="upDownArrow">
            <a:avLst>
              <a:gd name="adj1" fmla="val 50000"/>
              <a:gd name="adj2" fmla="val 33618"/>
            </a:avLst>
          </a:prstGeom>
          <a:solidFill>
            <a:srgbClr val="ccc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209760" y="3138480"/>
            <a:ext cx="2930400" cy="1154160"/>
            <a:chOff x="3209760" y="3138480"/>
            <a:chExt cx="2930400" cy="1154160"/>
          </a:xfrm>
        </p:grpSpPr>
        <p:grpSp>
          <p:nvGrpSpPr>
            <p:cNvPr id="250" name=""/>
            <p:cNvGrpSpPr/>
            <p:nvPr/>
          </p:nvGrpSpPr>
          <p:grpSpPr>
            <a:xfrm>
              <a:off x="3209760" y="3138480"/>
              <a:ext cx="2930400" cy="1154160"/>
              <a:chOff x="3209760" y="3138480"/>
              <a:chExt cx="2930400" cy="1154160"/>
            </a:xfrm>
          </p:grpSpPr>
          <p:sp>
            <p:nvSpPr>
              <p:cNvPr id="251" name=""/>
              <p:cNvSpPr/>
              <p:nvPr/>
            </p:nvSpPr>
            <p:spPr>
              <a:xfrm>
                <a:off x="3229920" y="3138480"/>
                <a:ext cx="2910240" cy="11361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209760" y="3728880"/>
                <a:ext cx="2204640" cy="563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220200" y="3728880"/>
                <a:ext cx="22046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406840" y="3728880"/>
                <a:ext cx="0" cy="545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3246840" y="3171600"/>
              <a:ext cx="785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xecu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347920" y="3886200"/>
            <a:ext cx="982800" cy="41760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o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ction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83040" y="4835520"/>
            <a:ext cx="254160" cy="460440"/>
          </a:xfrm>
          <a:prstGeom prst="upDownArrow">
            <a:avLst>
              <a:gd name="adj1" fmla="val 50000"/>
              <a:gd name="adj2" fmla="val 36064"/>
            </a:avLst>
          </a:prstGeom>
          <a:solidFill>
            <a:srgbClr val="ccc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37000" y="3890880"/>
            <a:ext cx="1722240" cy="40176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pability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straction/Adap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82920" y="4452840"/>
            <a:ext cx="3671640" cy="29052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S Enablers (PS, IM, Conf., Loc., …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60720" y="3129120"/>
            <a:ext cx="906480" cy="59832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09920" y="2214720"/>
            <a:ext cx="255600" cy="981000"/>
          </a:xfrm>
          <a:prstGeom prst="upDownArrow">
            <a:avLst>
              <a:gd name="adj1" fmla="val 50000"/>
              <a:gd name="adj2" fmla="val 76405"/>
            </a:avLst>
          </a:prstGeom>
          <a:solidFill>
            <a:srgbClr val="ccc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02520" y="2984400"/>
            <a:ext cx="771480" cy="46692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86000" y="5329080"/>
            <a:ext cx="4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S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65880" y="4892760"/>
            <a:ext cx="126720" cy="1309680"/>
          </a:xfrm>
          <a:prstGeom prst="upDownArrow">
            <a:avLst>
              <a:gd name="adj1" fmla="val 50000"/>
              <a:gd name="adj2" fmla="val 205747"/>
            </a:avLst>
          </a:prstGeom>
          <a:solidFill>
            <a:srgbClr val="ccc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88000" y="3645000"/>
            <a:ext cx="1943280" cy="2087640"/>
          </a:xfrm>
          <a:custGeom>
            <a:avLst/>
            <a:gdLst/>
            <a:ahLst/>
            <a:rect l="l" t="t" r="r" b="b"/>
            <a:pathLst>
              <a:path w="1270" h="1089">
                <a:moveTo>
                  <a:pt x="590" y="1089"/>
                </a:moveTo>
                <a:lnTo>
                  <a:pt x="1270" y="1089"/>
                </a:lnTo>
                <a:lnTo>
                  <a:pt x="1270" y="0"/>
                </a:lnTo>
                <a:lnTo>
                  <a:pt x="0" y="0"/>
                </a:lnTo>
                <a:lnTo>
                  <a:pt x="0" y="680"/>
                </a:lnTo>
                <a:lnTo>
                  <a:pt x="590" y="680"/>
                </a:lnTo>
                <a:lnTo>
                  <a:pt x="590" y="1089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13800" y="3645000"/>
            <a:ext cx="799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s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tform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30920" y="4437000"/>
            <a:ext cx="620640" cy="266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SMS-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51640" y="4437000"/>
            <a:ext cx="720720" cy="266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MMS-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7338960" y="5270400"/>
            <a:ext cx="253800" cy="460080"/>
          </a:xfrm>
          <a:prstGeom prst="upDownArrow">
            <a:avLst>
              <a:gd name="adj1" fmla="val 50000"/>
              <a:gd name="adj2" fmla="val 36087"/>
            </a:avLst>
          </a:prstGeom>
          <a:solidFill>
            <a:srgbClr val="f31107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6200000">
            <a:off x="6257520" y="4333680"/>
            <a:ext cx="254160" cy="460440"/>
          </a:xfrm>
          <a:prstGeom prst="upDownArrow">
            <a:avLst>
              <a:gd name="adj1" fmla="val 50000"/>
              <a:gd name="adj2" fmla="val 36064"/>
            </a:avLst>
          </a:prstGeom>
          <a:solidFill>
            <a:srgbClr val="ccc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0720" y="3932280"/>
            <a:ext cx="79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Ms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21800" y="4869000"/>
            <a:ext cx="79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Ms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Sig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67640" y="4797360"/>
            <a:ext cx="620640" cy="266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USS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767720" y="5373720"/>
            <a:ext cx="620640" cy="266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G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04000" y="3789360"/>
            <a:ext cx="620640" cy="358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Unif. ms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7000" y="620640"/>
            <a:ext cx="821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e1c23"/>
                </a:solidFill>
                <a:latin typeface="Bell Centennial SubCaption"/>
              </a:rPr>
              <a:t>Service Layer evolution towards SOA</a:t>
            </a: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73882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Centennial SubCaption"/>
              </a:rPr>
              <a:t>investigate, prototype and experiment new Service Oriented Architecture solutions to enable </a:t>
            </a:r>
            <a:r>
              <a:rPr b="0" lang="en-US" sz="2000" spc="-1" strike="noStrike">
                <a:solidFill>
                  <a:srgbClr val="f31107"/>
                </a:solidFill>
                <a:latin typeface="Bell Centennial SubCaption"/>
              </a:rPr>
              <a:t>enhanced models of service execution and invocation with high dynamicity and adaptability</a:t>
            </a:r>
            <a:r>
              <a:rPr b="0" lang="en-US" sz="2000" spc="-1" strike="noStrike">
                <a:solidFill>
                  <a:srgbClr val="000000"/>
                </a:solidFill>
                <a:latin typeface="Bell Centennial SubCaption"/>
              </a:rPr>
              <a:t> to company or user needs.</a:t>
            </a: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Centennial SubCaption"/>
              </a:rPr>
              <a:t>The innovative context is enabling </a:t>
            </a:r>
            <a:r>
              <a:rPr b="0" lang="en-US" sz="2000" spc="-1" strike="noStrike">
                <a:solidFill>
                  <a:srgbClr val="f31107"/>
                </a:solidFill>
                <a:latin typeface="Bell Centennial SubCaption"/>
              </a:rPr>
              <a:t>new business models intra-industry</a:t>
            </a:r>
            <a:r>
              <a:rPr b="0" lang="en-US" sz="2000" spc="-1" strike="noStrike">
                <a:solidFill>
                  <a:srgbClr val="000000"/>
                </a:solidFill>
                <a:latin typeface="Bell Centennial SubCaption"/>
              </a:rPr>
              <a:t> (e.g. Fixed-Mobile convergence) or inter-companies (e.g. the cooperation of various service domain e.g. TLC,IT,TV,AUTOMOTIVE).</a:t>
            </a: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e1c23"/>
                </a:solidFill>
                <a:latin typeface="Bell Centennial SubCaption"/>
              </a:rPr>
              <a:t>TELCO OPERATORS AND SOA</a:t>
            </a: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82170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Centennial SubCaption"/>
              </a:rPr>
              <a:t>Telco Operators are evaluating and investing on Service Oriented Architecture </a:t>
            </a:r>
            <a:endParaRPr b="0" lang="en-US" sz="1800" spc="-1" strike="noStrike">
              <a:solidFill>
                <a:srgbClr val="000000"/>
              </a:solidFill>
              <a:latin typeface="Bell Centennial SubCaptio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Centennial SubCaptio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Centennial SubCaption"/>
              </a:rPr>
              <a:t>Migrating towards Service Oriented Architectures means stating the core importance of the service as the base component by which new applications are built </a:t>
            </a:r>
            <a:endParaRPr b="0" lang="en-US" sz="1800" spc="-1" strike="noStrike">
              <a:solidFill>
                <a:srgbClr val="000000"/>
              </a:solidFill>
              <a:latin typeface="Bell Centennial SubCaptio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Centennial SubCaptio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Centennial SubCaption"/>
              </a:rPr>
              <a:t>Web Service is the reference technology for SOA implementation</a:t>
            </a:r>
            <a:endParaRPr b="0" lang="en-US" sz="1800" spc="-1" strike="noStrike">
              <a:solidFill>
                <a:srgbClr val="000000"/>
              </a:solidFill>
              <a:latin typeface="Bell Centennial SubCaptio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Centennial SubCaptio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Centennial SubCaption"/>
              </a:rPr>
              <a:t>Services need to be appropriately described to facilitate</a:t>
            </a:r>
            <a:endParaRPr b="0" lang="en-US" sz="1800" spc="-1" strike="noStrike">
              <a:solidFill>
                <a:srgbClr val="000000"/>
              </a:solidFill>
              <a:latin typeface="Bell Centennial SubCaption"/>
            </a:endParaRPr>
          </a:p>
          <a:p>
            <a:pPr lvl="1" marL="839880" indent="-304920" algn="just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ell Centennial SubCaption"/>
              </a:rPr>
              <a:t>Discovery of services of interest enhancing finding mechanisms</a:t>
            </a:r>
            <a:endParaRPr b="1" lang="en-US" sz="1600" spc="-1" strike="noStrike">
              <a:solidFill>
                <a:srgbClr val="000000"/>
              </a:solidFill>
              <a:latin typeface="Bell Centennial SubCaption"/>
            </a:endParaRPr>
          </a:p>
          <a:p>
            <a:pPr lvl="1" marL="839880" indent="-304920" algn="just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ell Centennial SubCaption"/>
              </a:rPr>
              <a:t>Composition of services into more complex ones</a:t>
            </a:r>
            <a:endParaRPr b="1" lang="en-US" sz="1600" spc="-1" strike="noStrike">
              <a:solidFill>
                <a:srgbClr val="000000"/>
              </a:solidFill>
              <a:latin typeface="Bell Centennial SubCaption"/>
            </a:endParaRPr>
          </a:p>
          <a:p>
            <a:pPr lvl="1" marL="839880" indent="0" algn="just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ell Centennial SubCaptio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Centennial SubCaption"/>
              </a:rPr>
              <a:t>Telco operators are expecting an increasing number of service offers</a:t>
            </a:r>
            <a:endParaRPr b="0" lang="en-US" sz="18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e1c23"/>
                </a:solidFill>
                <a:latin typeface="Bell Centennial SubCaption"/>
              </a:rPr>
              <a:t>Different Requirements for semantic description of Telco services</a:t>
            </a: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8280" y="1483920"/>
            <a:ext cx="82170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Centennial SubCaption"/>
              </a:rPr>
              <a:t>Target category of the Telco service (main+other): e.g. call service, messaging, a/v conferencing, localization, presence </a:t>
            </a: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Centennial SubCaption"/>
              </a:rPr>
              <a:t>Supported protocols: e.g. SIP enabled service, H323, … </a:t>
            </a: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Centennial SubCaption"/>
              </a:rPr>
              <a:t>Content type: audio/video/text/image  (e.g. sms text, mms image)</a:t>
            </a: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Centennial SubCaption"/>
              </a:rPr>
              <a:t>Service quality (rating)</a:t>
            </a: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Centennial SubCaption"/>
              </a:rPr>
              <a:t>Service cost model (e.g. flat, fee per use, free)</a:t>
            </a:r>
            <a:endParaRPr b="0" lang="en-US" sz="2000" spc="-1" strike="noStrike">
              <a:solidFill>
                <a:srgbClr val="000000"/>
              </a:solidFill>
              <a:latin typeface="Bell Centennial SubCaption"/>
            </a:endParaRPr>
          </a:p>
          <a:p>
            <a:pPr lvl="1" marL="812880" indent="0" algn="just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ell Centennial SubCaption"/>
            </a:endParaRPr>
          </a:p>
          <a:p>
            <a:pPr lvl="1" marL="812880" indent="0" algn="just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ell Centennial SubCaption"/>
            </a:endParaRPr>
          </a:p>
          <a:p>
            <a:pPr lvl="1" marL="812880" indent="0" algn="just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3680" y="692280"/>
            <a:ext cx="821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e1c23"/>
                </a:solidFill>
                <a:latin typeface="Bell Centennial SubCaption"/>
              </a:rPr>
              <a:t>Telecom Italia expertise in (Semantic) Web Services</a:t>
            </a:r>
            <a:endParaRPr b="1" lang="en-US" sz="2200" spc="-1" strike="noStrike">
              <a:solidFill>
                <a:srgbClr val="ee1c23"/>
              </a:solidFill>
              <a:latin typeface="Bell Centennial SubCaptio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170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12880" indent="-277920" algn="just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Centennial SubCaption"/>
              </a:rPr>
              <a:t>Experience in Telco WS, e.g. Parlay X WS</a:t>
            </a:r>
            <a:endParaRPr b="1" lang="en-US" sz="1800" spc="-1" strike="noStrike">
              <a:solidFill>
                <a:srgbClr val="000000"/>
              </a:solidFill>
              <a:latin typeface="Bell Centennial SubCaption"/>
            </a:endParaRPr>
          </a:p>
          <a:p>
            <a:pPr lvl="1" marL="812880" indent="0" algn="just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ell Centennial SubCaption"/>
            </a:endParaRPr>
          </a:p>
          <a:p>
            <a:pPr lvl="1" marL="812880" indent="-277920" algn="just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Centennial SubCaption"/>
              </a:rPr>
              <a:t>OWL-S extension applied to Telco services on the requirements basis</a:t>
            </a:r>
            <a:endParaRPr b="1" lang="en-US" sz="1800" spc="-1" strike="noStrike">
              <a:solidFill>
                <a:srgbClr val="000000"/>
              </a:solidFill>
              <a:latin typeface="Bell Centennial SubCaption"/>
            </a:endParaRPr>
          </a:p>
          <a:p>
            <a:pPr lvl="2" marL="1523880" indent="-266400" algn="just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f31107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Centennial SubCaption"/>
              </a:rPr>
              <a:t>Definition of side-ontologies for effects, atomic processes, IO types, etc</a:t>
            </a:r>
            <a:endParaRPr b="0" lang="en-US" sz="1800" spc="-1" strike="noStrike">
              <a:solidFill>
                <a:srgbClr val="000000"/>
              </a:solidFill>
              <a:latin typeface="Bell Centennial SubCaption"/>
            </a:endParaRPr>
          </a:p>
          <a:p>
            <a:pPr lvl="2" marL="1523880" indent="-266400" algn="just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f31107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Centennial SubCaption"/>
              </a:rPr>
              <a:t>Usage/Extension of ServiceProfile to map service properties</a:t>
            </a:r>
            <a:endParaRPr b="0" lang="en-US" sz="1800" spc="-1" strike="noStrike">
              <a:solidFill>
                <a:srgbClr val="000000"/>
              </a:solidFill>
              <a:latin typeface="Bell Centennial SubCaption"/>
            </a:endParaRPr>
          </a:p>
          <a:p>
            <a:pPr lvl="2" marL="1523880" indent="-266400" algn="just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f31107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Centennial SubCaption"/>
              </a:rPr>
              <a:t>Usage of ServiceGrounding &amp; ServiceProfile IOPE for composition</a:t>
            </a:r>
            <a:endParaRPr b="0" lang="en-US" sz="1800" spc="-1" strike="noStrike">
              <a:solidFill>
                <a:srgbClr val="000000"/>
              </a:solidFill>
              <a:latin typeface="Bell Centennial SubCaption"/>
            </a:endParaRPr>
          </a:p>
          <a:p>
            <a:pPr lvl="2" marL="1523880" indent="-266400" algn="just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f31107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Centennial SubCaption"/>
              </a:rPr>
              <a:t>Basis for discovery/matching parameters</a:t>
            </a:r>
            <a:endParaRPr b="0" lang="en-US" sz="1800" spc="-1" strike="noStrike">
              <a:solidFill>
                <a:srgbClr val="000000"/>
              </a:solidFill>
              <a:latin typeface="Bell Centennial SubCaption"/>
            </a:endParaRPr>
          </a:p>
          <a:p>
            <a:pPr lvl="2" marL="1523880" indent="0" algn="just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Centennial SubCaption"/>
            </a:endParaRPr>
          </a:p>
          <a:p>
            <a:pPr lvl="1" marL="812880" indent="-277920" algn="just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Clr>
                <a:srgbClr val="f31107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Centennial SubCaption"/>
              </a:rPr>
              <a:t>OWL-S description of Parlay X WS (TPCC, Send SMS)</a:t>
            </a:r>
            <a:endParaRPr b="1" lang="en-US" sz="1800" spc="-1" strike="noStrike">
              <a:solidFill>
                <a:srgbClr val="000000"/>
              </a:solidFill>
              <a:latin typeface="Bell Centennial SubCaption"/>
            </a:endParaRPr>
          </a:p>
          <a:p>
            <a:pPr lvl="2" marL="1523880" indent="0" algn="just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Centennial SubCaption"/>
            </a:endParaRPr>
          </a:p>
          <a:p>
            <a:pPr lvl="1" marL="812880" indent="0" algn="just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ell Centennial SubCaption"/>
            </a:endParaRPr>
          </a:p>
          <a:p>
            <a:pPr lvl="1" marL="812880" indent="0" algn="just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ell Centennial SubCaption"/>
            </a:endParaRPr>
          </a:p>
          <a:p>
            <a:pPr lvl="2" marL="1523880" indent="0" algn="just">
              <a:lnSpc>
                <a:spcPct val="11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ll Centennial SubCapt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ruccio Antonelli</dc:creator>
  <dc:description/>
  <dc:language>en-US</dc:language>
  <cp:lastModifiedBy>Administrator</cp:lastModifiedBy>
  <dcterms:modified xsi:type="dcterms:W3CDTF">2006-06-26T14:00:24Z</dcterms:modified>
  <cp:revision>419</cp:revision>
  <dc:subject/>
  <dc:title>Service Layer Engineering</dc:title>
</cp:coreProperties>
</file>