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B68-5FC4-46ED-A341-F2DE4CDF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2C7-794F-4E4E-AE9B-3024041A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EB6-D1E9-4B7F-B673-A707232A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376-5FE1-4B11-8DE7-DD447182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A7C-C337-4AFE-B333-E04FAA11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EA7-BA2A-4D52-B3D8-F2461607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2EC-7E8E-419F-85D4-4B41C7F1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B7F-EBC1-4885-B0B5-BFF7A633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82B-4616-48D2-BF63-C9A1410F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071-7514-4A42-A3D4-EFA11EB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7CB-2E68-4731-AB89-41BB8A3C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E47-4B60-4489-9D17-1C6D06DB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6963-7F75-4D06-9D6A-6B84BF938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743200"/>
            <a:ext cx="6400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2209680"/>
            <a:ext cx="76176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289548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209680"/>
            <a:ext cx="28958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 Data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3760" y="2235240"/>
            <a:ext cx="127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962160" y="2327400"/>
            <a:ext cx="888840" cy="2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120920" y="2413080"/>
            <a:ext cx="647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330800" y="2502000"/>
            <a:ext cx="691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209680"/>
            <a:ext cx="6400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7840" y="2238480"/>
            <a:ext cx="554040" cy="26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05:18:13Z</dcterms:created>
  <dc:creator>Patrick Stickler</dc:creator>
  <dc:description/>
  <dc:language>en-US</dc:language>
  <cp:lastModifiedBy>Patrick Stickler</cp:lastModifiedBy>
  <dcterms:modified xsi:type="dcterms:W3CDTF">2002-04-15T06:19:24Z</dcterms:modified>
  <cp:revision>12</cp:revision>
  <dc:subject/>
  <dc:title>PowerPoint Presentation</dc:title>
</cp:coreProperties>
</file>