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08080" y="1274760"/>
            <a:ext cx="739620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by Daniel Rivers-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Director, Riv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WWW6 workshop on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ructured documentation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a Clara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7 Apri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1997, RivCom, Lotmead Business Village, Swindon SN4 0UY, 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ssion to reuse this presentation for any non-commercial purpose is hereby grant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this copyright notice is reproduced in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533520"/>
            <a:ext cx="34815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&gt;a simple produc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&gt;the only par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514600"/>
            <a:ext cx="358776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&gt;a complex produc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&gt;a par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/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&gt;another par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/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/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04160" y="527040"/>
            <a:ext cx="1841400" cy="12319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08920" y="585720"/>
            <a:ext cx="163188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imple product database expressed as a tree of nested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04160" y="2508120"/>
            <a:ext cx="1841400" cy="85104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108920" y="2567160"/>
            <a:ext cx="1631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more complex case handled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880" y="2971800"/>
            <a:ext cx="6246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rod ID="prod0002" desc="a complex produc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2" desc="a part" pro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3" desc="another part" pro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533520"/>
            <a:ext cx="6353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 ID="prod0001" desc="a simple produc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1" desc="the only part" prod="prod0001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0120" y="527040"/>
            <a:ext cx="1841400" cy="109548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84880" y="585720"/>
            <a:ext cx="1631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flat structure using EMPTY elements with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0120" y="2965320"/>
            <a:ext cx="1841400" cy="6066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184880" y="302436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ing IDs allows one-to-many link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5305320"/>
            <a:ext cx="65660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rod ID="prod0002" desc="a complex produc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2" desc="a part" </a:t>
            </a:r>
            <a:r>
              <a:rPr b="1" lang="en-US" sz="1400" spc="-1" strike="noStrike">
                <a:solidFill>
                  <a:srgbClr val="ff0033"/>
                </a:solidFill>
                <a:latin typeface="Courier New"/>
                <a:ea typeface="Courier New"/>
              </a:rPr>
              <a:t>prod="prod0002,prod0003"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3" desc="another part" pro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0120" y="5299200"/>
            <a:ext cx="1841400" cy="85104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84880" y="5357880"/>
            <a:ext cx="1631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many-to-many links are still a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880" y="2965320"/>
            <a:ext cx="624672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rod I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3"&gt;a complex produc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4"&gt;a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5"&gt;another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desc" node1="prod0002" node2="desc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artdesc" node1="part0002" node2="desc0004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artdesc" node1="part0003" node2="desc0005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2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2" node2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3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533520"/>
            <a:ext cx="62467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 ID="prod0001" desc="a simple produc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1" desc="the only part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 type="prodpart" node1="prod0001" node2="part0001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04160" y="527040"/>
            <a:ext cx="1841400" cy="13399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108920" y="585720"/>
            <a:ext cx="163188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yTime addresses this problem by separating out the  link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04160" y="3622680"/>
            <a:ext cx="1841400" cy="18288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08920" y="3681360"/>
            <a:ext cx="1631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e th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&lt;desc&gt; elements have content,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&lt;link&gt; elements have attributes other than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04160" y="2889360"/>
            <a:ext cx="1841400" cy="6066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08920" y="294804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solution is fully sca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04160" y="5578560"/>
            <a:ext cx="1841400" cy="6066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08920" y="563724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version is 'fully normaliz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965320"/>
            <a:ext cx="624672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rod I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part ID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3"&gt;a complex produc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4"&gt;a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desc ID="desc0005"&gt;another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desc" node1="prod0002" node2="desc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artdesc" node1="part0002" node2="desc0004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artdesc" node1="part0003" node2="desc0005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2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2" node2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link type="prodpart" node1="prod0003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04160" y="2921040"/>
            <a:ext cx="1841400" cy="330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533520"/>
            <a:ext cx="358776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&gt;a complex produc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&gt;a par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&gt;another part&lt;/des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ar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004160" y="527040"/>
            <a:ext cx="1841400" cy="330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norm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533520"/>
            <a:ext cx="51832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 I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3"&gt;a complex produc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4"&gt;a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5"&gt;another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desc node1="prod0002" node2="desc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2" node2="desc0004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3" node2="desc0005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3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04160" y="527040"/>
            <a:ext cx="1841400" cy="1689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08920" y="585720"/>
            <a:ext cx="1631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hybrid form which uses a top layer of elements to distinguish element types which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in 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533520"/>
            <a:ext cx="603396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ourc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alog system="foo/bar.soc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td system="baz/mydtd.dtd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ylesheet" type="dsssl" system="...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s type="hytime" system="...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esource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nt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 I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3"&gt;a complex produc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4"&gt;a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5"&gt;another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desc node1="prod0002" node2="desc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2" node2="desc0004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3" node2="desc0005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3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nt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04160" y="527040"/>
            <a:ext cx="1841400" cy="22986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08920" y="585720"/>
            <a:ext cx="163188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technique could be used to create an XML interchange format which packages together all necessar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0880" y="533520"/>
            <a:ext cx="614052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atalog system="foo/bar.soc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td system="baz/mydtd.dtd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ylesheet type="dsssl" system="...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s type="hytime" system="..." public="...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 ID="prod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 ID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hysical_objec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3"&gt;a complex produc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4"&gt;a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 ID="desc0005"&gt;another part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formation_cont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desc node1="prod0002" node2="desc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2" node2="desc0004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rtdesc node1="part0003" node2="desc0005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2" node2="part0003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dpart node1="prod0003" node2="part0002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ssociation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x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4160" y="527040"/>
            <a:ext cx="1841400" cy="10033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08920" y="585720"/>
            <a:ext cx="1631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, borrowing the HEAD and BODY concept  form HTML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 Rivers-Moore</dc:creator>
  <dc:description/>
  <dc:language>en-US</dc:language>
  <cp:lastModifiedBy>Daniel Rivers-Moore</cp:lastModifiedBy>
  <cp:revision>0</cp:revision>
  <dc:subject/>
  <dc:title>Plus ca change ….</dc:title>
</cp:coreProperties>
</file>