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01F-A9E1-479A-8834-89005B3D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B30-4BBC-4B1F-B2AA-1BF3DB09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D40-5BDF-42D0-9D7D-27E20DC6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9E8D-58B7-44FE-AC47-80802F6F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F83-8D0B-4FB9-AB7A-2BA98464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409-5CB8-4472-84D3-F2848276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E5A-1E1A-464D-90F1-F0FFC129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B37-B43A-49E6-901B-3605CF6E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538-2F1B-44A9-B18D-2424C7FA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B6D-C5DE-482C-9D0C-14C5A6BB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15A-6806-4EC5-9FB1-F6D62E3D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175-6F55-4211-9D5E-D8A5A96D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5585-F9B2-4E88-B024-719BE5394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1600200"/>
            <a:ext cx="15242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62120" y="3200400"/>
            <a:ext cx="4876560" cy="609480"/>
            <a:chOff x="762120" y="3200400"/>
            <a:chExt cx="4876560" cy="609480"/>
          </a:xfrm>
        </p:grpSpPr>
        <p:sp>
          <p:nvSpPr>
            <p:cNvPr id="43" name=""/>
            <p:cNvSpPr/>
            <p:nvPr/>
          </p:nvSpPr>
          <p:spPr>
            <a:xfrm>
              <a:off x="762120" y="3200400"/>
              <a:ext cx="15238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hort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438280" y="3200400"/>
              <a:ext cx="152424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dium_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ight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14800" y="3200400"/>
              <a:ext cx="15238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ll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7162920" y="1295280"/>
            <a:ext cx="15238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3124080"/>
            <a:ext cx="15238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53360" y="495288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495288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hn’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523880" y="2286000"/>
            <a:ext cx="144792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00400" y="23623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580920" y="2286000"/>
            <a:ext cx="121932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8560" y="24382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wl:union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924680" y="1905120"/>
            <a:ext cx="0" cy="12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876920" y="3885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92468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0368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486400" y="5334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6800" y="507672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as_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638680" y="3429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81960" y="3197160"/>
            <a:ext cx="148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as_height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omeValues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590920"/>
            <a:ext cx="2514600" cy="228600"/>
          </a:xfrm>
          <a:custGeom>
            <a:avLst/>
            <a:gdLst/>
            <a:ahLst/>
            <a:rect l="l" t="t" r="r" b="b"/>
            <a:pathLst>
              <a:path w="1488" h="144">
                <a:moveTo>
                  <a:pt x="0" y="48"/>
                </a:moveTo>
                <a:lnTo>
                  <a:pt x="0" y="144"/>
                </a:lnTo>
                <a:lnTo>
                  <a:pt x="1488" y="96"/>
                </a:lnTo>
                <a:lnTo>
                  <a:pt x="14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038480" y="3132000"/>
            <a:ext cx="45072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447920"/>
            <a:ext cx="419076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523880" y="3352680"/>
            <a:ext cx="12956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14479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3352680"/>
            <a:ext cx="14475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54560" y="2579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all_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680" y="2286000"/>
            <a:ext cx="138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dium_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eight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6880" y="4156200"/>
            <a:ext cx="10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hort_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34290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hn’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1219320"/>
            <a:ext cx="243828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ll_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86200" y="182880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23623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495680" y="2666880"/>
            <a:ext cx="243864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920" y="1600200"/>
            <a:ext cx="30477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191120" y="190512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72000" y="1905120"/>
            <a:ext cx="190512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20638800">
            <a:off x="4266000" y="1523880"/>
            <a:ext cx="148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as_height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omeValues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428200">
            <a:off x="5259960" y="274284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as_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0" y="3425760"/>
            <a:ext cx="38592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438280" y="1600200"/>
            <a:ext cx="15242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1295280"/>
            <a:ext cx="15238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124080"/>
            <a:ext cx="15238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3360" y="495288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523880" y="2286000"/>
            <a:ext cx="144792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00400" y="23623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580920" y="2286000"/>
            <a:ext cx="121932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238880" y="1828800"/>
            <a:ext cx="38124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924680" y="19051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0368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6800" y="25146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wl:one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876560" y="3733560"/>
            <a:ext cx="243828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125200">
            <a:off x="5411520" y="411444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as_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18148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6000" y="3200400"/>
            <a:ext cx="99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as_height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590920"/>
            <a:ext cx="2514600" cy="228600"/>
          </a:xfrm>
          <a:custGeom>
            <a:avLst/>
            <a:gdLst/>
            <a:ahLst/>
            <a:rect l="l" t="t" r="r" b="b"/>
            <a:pathLst>
              <a:path w="1488" h="144">
                <a:moveTo>
                  <a:pt x="0" y="48"/>
                </a:moveTo>
                <a:lnTo>
                  <a:pt x="0" y="144"/>
                </a:lnTo>
                <a:lnTo>
                  <a:pt x="1488" y="96"/>
                </a:lnTo>
                <a:lnTo>
                  <a:pt x="14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238560"/>
            <a:ext cx="9903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238560"/>
            <a:ext cx="914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um_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3238560"/>
            <a:ext cx="914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391520" y="3733920"/>
            <a:ext cx="45720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86200" y="3041640"/>
            <a:ext cx="454500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14:52:36Z</dcterms:created>
  <dc:creator>Rector</dc:creator>
  <dc:description/>
  <dc:language>en-US</dc:language>
  <cp:lastModifiedBy>Rector</cp:lastModifiedBy>
  <dcterms:modified xsi:type="dcterms:W3CDTF">2004-06-13T11:32:58Z</dcterms:modified>
  <cp:revision>5</cp:revision>
  <dc:subject/>
  <dc:title>PowerPoint Presentation</dc:title>
</cp:coreProperties>
</file>